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push.wav" ContentType="audio/x-wav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6.png" ContentType="image/png"/>
  <Override PartName="/ppt/media/wind.wav" ContentType="audio/x-wav"/>
  <Override PartName="/ppt/media/image41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38.jpeg" ContentType="image/jpe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jpeg" ContentType="image/jpeg"/>
  <Override PartName="/ppt/media/image40.jpeg" ContentType="image/jpeg"/>
  <Override PartName="/ppt/media/image44.png" ContentType="image/png"/>
  <Override PartName="/ppt/media/image30.png" ContentType="image/png"/>
  <Override PartName="/ppt/media/image37.jpeg" ContentType="image/jpeg"/>
  <Override PartName="/ppt/media/image42.png" ContentType="image/png"/>
  <Override PartName="/ppt/media/image43.png" ContentType="image/png"/>
  <Override PartName="/ppt/media/image45.png" ContentType="image/png"/>
  <Override PartName="/ppt/media/image1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7.png" ContentType="image/png"/>
  <Override PartName="/ppt/media/camera.wav" ContentType="audio/x-wav"/>
  <Override PartName="/ppt/media/image22.png" ContentType="image/png"/>
  <Override PartName="/ppt/media/YOUYONG.WAV" ContentType="audio/x-wav"/>
  <Override PartName="/ppt/media/image11.png" ContentType="image/png"/>
  <Override PartName="/ppt/media/image5.png" ContentType="image/png"/>
  <Override PartName="/ppt/media/image3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2584-A8F0-4186-9689-37C2FF85D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384F-06CB-4D0F-960B-DCB532F9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3879B-BCAE-4FDC-AB2F-1F95C34A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25E6FD-364C-42F6-B60B-50BDE65E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0B8AC9-7F3F-4FC7-A350-18CFFB5C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A1EF30-CEFB-418C-909C-8FE6BF0A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F79B7C-1E9C-4556-9641-9FEB299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243211-529F-40B4-9ACC-F9F4A737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20E080-6B03-46B5-BB3A-098CC2B5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5BD18E-1CCB-442E-B190-E0BBD1F0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AA9C29-CE1B-438A-BE6E-060578023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8DF65-FBFE-4A91-ADBC-801057940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6990-C574-431B-9169-07936ED2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385E-D048-4EC9-A64A-15F91754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C751D-7F39-410F-856E-EAC7E6AC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5827D-E86F-4B40-A10A-F7FA48EF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85B9E-64E3-4A77-99FB-0039050E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53C16-7302-445F-9733-969CF14A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7F7E0-733A-45DA-B701-C68E2197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DB18-5551-4075-B877-3642BDF4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945F5-2DAE-4E22-B57A-A067BAC6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713A-DF79-4A14-8FA7-F5B49305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457FD-A647-4E36-A21D-76BB9387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1C41-05A3-41EB-A185-15AF4D5BB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0E11A-5789-4B7F-8079-E7E56783DD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6B32CE-DE19-4F4A-B0B7-C10D819C40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10A9B0-8E33-4EBF-9EA7-AF904FA5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88A60-D2A3-485C-BB1F-5FED54C7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DF6742-2A58-4048-B5CF-C1A7823B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824362-481F-445B-8378-8CCA48CA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501E42-6ACB-4CF1-BEEB-8669E574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5AD915-23A3-4180-A981-A06B33D4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7864CA-F61C-44AD-955D-06D25ED0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BCEAA-636F-4440-A926-EE6645A6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A370B-7E3B-4AAE-A5B9-34E527F6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19DF13-43DE-4F87-B9AF-BB20BC3B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2A8729-D59E-4A94-8173-F8F24B10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AB35E-49A4-49EC-95CF-94D5DDA8C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4B342-A146-49E1-9FEF-D8CA48E9B9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9C9D9-5A56-4C44-98C5-AB413A43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0C2C7-5228-4747-B609-2DA6BCCB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D5896-9F09-4EB7-B43E-9E865FD3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48803-7321-4808-86F8-01425DAD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FDA50-303A-445D-B759-89B16FD2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D3AAC-D801-441C-AF3A-82564FF9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AAE20-3A3A-4206-A953-E05EC8EA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F9D18-5CB6-46E8-8550-1ECCAC88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6F262-22C6-4588-8CD5-3841BAFB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5893B-ACAA-4D2F-9DF9-205253F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38D1C-C974-49CE-9D84-344FB61B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26543-3C4B-4D33-BDA7-102130997F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2E8B2-9D02-4AFD-A5C5-40126D01F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31A57-5531-4AC7-B617-8558338C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186DD-7E0E-4C35-A617-48C93447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5235D-BD34-4CCC-AC10-F7E983CE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4241C-203D-4FF2-97EE-5B8E87F8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9E8DF-7282-4C38-8470-E4FC5064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E9FB7-748F-4E39-B535-18F039EA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B0089-FE3C-4629-8574-993BE657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179A9-E0AB-4D2F-93DF-482B6F40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1957E-6A9E-4C9E-B593-3F0A2F57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C2914-F611-47C4-9E77-CA8B548E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29EDE-A1B7-4947-B57E-65CB2F8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83F59-F984-41B3-8E54-9676235818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6831D-EA5C-4D7C-A5E9-48733C96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9A65F-517B-4853-A8D4-A73818D5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7B50D-9491-412E-89BF-78634B29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DAD47-F2AE-4BD2-9CB6-2ACFBC8F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666A2-4E2A-4D91-AD99-F8417EB6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369A0-47A9-4538-92D9-E5600243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9314D-C103-45E2-9EF6-D065AF25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2AD20-DF6C-4B92-8EF0-593737D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DB016-D762-48DC-9BFF-86750994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42FDB-F5A2-43A4-B4C3-8A77FAA3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F6DE3-59F6-4811-A265-EA90A3EF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40C17-9D92-45C4-8328-2466E4E9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62C46-C7B8-4547-B0E4-DA3F08FF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6E7B6-3A30-48A3-9A53-B50A490D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CAC9D-F092-40F2-9266-EFC6575A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39EE1-D9E1-4690-8541-635335D3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DDF99-A970-417B-AF6F-2928F950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9A1A9-B101-4E36-80F2-121F37D6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AF753-9A72-4DCC-961D-9B2EE88B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269CD-803B-4A58-87EE-86E4A2A3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A54DF-568C-423D-A6BE-755BDEA1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B1EF1-8302-4438-8B3F-A3F1C124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990CE-5349-4C76-B733-505E1D36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D2C45-F0AD-469D-A024-F1EBD55B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23D9E-ECBA-47E2-90B2-C60370F2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A0C9C-6DDE-407A-94AF-DF992D43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2F8A-5DA3-4D28-837A-3FD641A1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F2D34-DC51-4D84-8640-8FB3D47E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9576C-B8D8-4317-B4D4-6F62FA08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06EF1-5E99-4826-AE7B-A392D7E9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FEB17-4632-4B31-BA64-C053A7A0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4CE24-CBEF-4120-A01D-9AC88B0C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4EE13-DB79-42A7-AE42-35CB2BC2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FBF98-0FB3-474C-BB36-2D53E74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26AE4-1887-4B26-BAAF-17ED5FB0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EFF9B-1DC6-46FF-8DB9-2D04C4E6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07514-F2F9-44CF-AB32-CA229B5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0D043-5024-4924-B94F-67BA8263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8C757-FEF8-4B67-B7F6-E3586658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CEC12-0E4E-477F-B4DF-6582F5A6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059F2-A713-4751-8710-95F533E7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6283A-6AC9-4882-A54B-3B799C6F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371B4-6CD8-4D9D-99C0-50FE24FE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6C5D1-0E7E-49C2-A034-F639EB5B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F0B08-289C-44D7-A460-64B137F8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80BBB-4A32-4649-AAEE-4E2F863A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B40D4-675D-4794-8767-54AFB083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1A47-8E2A-456F-BDF7-4FCA50B5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0E8C4-935E-45A4-8D60-E70F37DE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47C25-3DB5-4F50-B500-8965E4DD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15B29-FFA2-4391-8AB2-CA1DF74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ED4B3-082F-488E-89DF-B3FD77BA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0A8AD-E35F-4663-8109-326ED520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9A8CA-CDBD-40CF-859C-F9115B35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6FB4D-576E-4806-A4CD-5223BEE9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CFF57-5F35-4C7B-B6C3-7330E959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A14E8-345F-4089-8235-2FCBD5C2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40B75-BE2A-44E6-9AB2-A348D69B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56215-8DE1-4466-8D67-AF358F00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E1387-5C6E-4713-B754-2E78739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0B6D5-0568-4754-B9A5-6C9A8655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370BA-4AB4-4DA2-97F2-61B95965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479CC-9865-4C4F-AA67-FCB05995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407D3-B060-44E4-8F65-4B90719A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F9998-9195-48E8-B595-1FF5F50C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D12A3-9D7E-48F9-9ECE-27FAC872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CC867-B20D-422C-AAA0-8B0026D1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16317-B38B-4334-B539-175377CD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D4078-CED5-49ED-AF5D-D412C425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5D6A1-821A-4914-BA04-789F4499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CC847-7572-4012-91B6-96A45202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45AC9-DF40-44FC-8667-C9EDE68A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A7AD0-0911-4FC0-9372-F9C45C12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8F9EC-9668-4A34-BED8-263C4CB2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E3B08-9F83-4B1F-AE02-0C6FF7EB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37292-83F9-4082-892F-8258680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99CAB-26A5-4DD4-A333-A94E2E7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E80BE-718D-434D-BACE-EDD479B2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F3B86-79C3-4FBC-A47A-0B018B4D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D2502-FBE1-48C2-83BC-BBA6B081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42994-1C2C-4C01-BC1F-0EDFE065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54DAC-1208-42DA-8120-5790345E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0BB29-F224-43EE-953B-921562F8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DE23C-A251-4256-919B-40A863E5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F9718-2DAE-460A-AF55-0ED594EE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57BED-0B03-4815-8F54-1B8CCC39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94D4C-52B3-4546-9ACA-774B35C5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4C7EC-742B-4D9F-B62F-514FC22A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EAC54-F5DE-461C-88DE-7BA31B65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9B2B4-6634-47A7-B10B-A8631F5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9F157-CA8F-4B67-B65B-D3F90708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AEDA2-1766-4BB8-AA83-A41E392B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927FB-97B1-40F8-B39A-B6B0B489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F5112-F04D-424C-A45D-4C7CFE27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1EEE1-F7E3-4BAE-9607-F50202BF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F9DA1-5305-4A53-91EA-FA691F95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7E09B-3AD5-494F-B3B6-96A8CF9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D044D-722A-49AA-8A52-45145398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485FF-B540-4860-AE66-E62C69A8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CADC9-1DD0-47BD-BAC1-5C6F262F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0AFF6-09C8-4E8E-9B9C-14CCC847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79DAB-095C-44FF-BCCE-614B590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32CAF-2B68-494D-9AF9-9D946092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3E085F-4726-4CD0-B5C0-96AE46A506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6BCDF-E390-4C2D-B5D2-F621EC0E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3D755-B0D8-4AA8-9438-E02A0364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20C371-CCF0-4049-85D9-0EFC953E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17938-BD08-4C23-8F96-230985B4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65028-D571-4F1E-811B-3DF06687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C5A11-EAEF-4373-A1E3-037E1FD9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D6AAB-2966-4669-B45C-ADEBD94A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EC82B-2D96-487E-968A-3568F052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51B87-8FA7-494E-8178-D83DE85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AF2C4-9F4B-45F8-80C7-F7A47B9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B9362-3196-415D-8AAE-31BA244D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D4CC3-C003-4081-8CED-C604DBE9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D443A-A9F4-4749-867A-1BF42D26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7BA76B-6065-4FB3-99FF-A1C6EFD0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3C464-57D5-48C6-98C7-29844672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6051D4-1641-4C0D-AA1B-D3E1CD64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BC786-3529-45A4-B7C7-D4A07C55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41022-37D1-4710-A0D0-5DE5FE7B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EA8BF4-E4CD-400B-BF7E-AD703CE6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D4E7FB-CDF5-4B65-955A-A743FE19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31BD3-6418-4544-9573-7C14B6C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9C709B-A4CF-424F-B915-80B660AB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E9B8E-827A-430E-886D-E4CF394F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E5075-6894-4DF3-9A80-D8B60F45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AF940-E746-4FBC-A181-8B7D4F7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40E187-9FBD-4017-A93B-34A5FB6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40239-426F-4C5E-A18F-555660D8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4CB93-5AEC-4EAE-BB4B-1A3CED12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69FD5-3E7F-4A13-995E-80C492B3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D17707-278E-401B-8FA9-97947338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C4C16-591E-41FD-9689-854628C2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77219-FEDB-4450-94D9-B8E50001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5EFAD-069B-48CB-A37E-55D30CC6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895D6D-D82C-4A54-A7EA-D3D9A2F0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04FD6F-5D21-48C3-B3A4-CE99CF05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BADF8-0F8D-46B4-B43E-2083CC73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93A2F-E40A-4490-800D-E1568A1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0B9972-0159-4887-BD03-55805AEE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2B889F-9AF3-4604-ACCB-AC4B9A78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EC8E0-0DBF-4C85-A48C-DD54EF68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B6A743-102D-4B68-AE63-C2DFBD54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CB6BAC-FAED-46A3-AF5D-3C1B2051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D79B6-F6BC-40F8-9525-D563B38C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F3A8-8A87-4FB3-9D03-E85691E5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F2283-F364-4973-8795-4337C7A5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9A1F4-E000-452C-814F-4FA2C850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81467-3726-4B01-8C20-F0F52981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EF53B-8C71-452E-9F6E-66BB3C54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2DFF3-493F-4382-A4A4-44C6EA8A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DBAB9-E066-4B9F-A3B7-082BC59B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F90BD-6E5D-4E05-909A-A5E12B2A22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3C93-A02F-4321-8D1A-8AD55CEE9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2F4E-0DA7-45CF-877F-3A9E4AB9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4E83-1540-404B-8472-1756DF6A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7BE5-7BA5-4422-9A41-2F119392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FDF1-22E4-456C-BDE0-28E97A87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4C04-7E20-4276-B3F5-0282DD25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CF0E-856B-4DFC-969A-F23DEA85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2B08-5544-473B-AA1A-F1BCA6D6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B455-CF28-4363-B6D5-CA9BB7A2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BFBE-F42D-4E0B-9440-3361B0AA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12AC-158D-4506-AEB6-3294AE83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7BE8-99B6-441F-822E-79968D9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D060-094C-427B-9913-42F61E7CE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42088-BDC4-4ABF-9717-A4DB2C3C0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D74A-F7B4-45C2-BF56-775ECE3C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8C5E2-420E-492C-8560-0DDACA42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AE0B7-BD31-4A67-A1FF-ABD16AD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F2B5E-0964-4606-A211-8A964E39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02BC0-B58A-45AD-A584-3EA04942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93F87-0ACC-4F3A-A4DA-3E0E4A5D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57FC1-85A8-4405-AB55-D7046FF8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A60F8-74B8-46E6-AE1E-D86A7CF6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D8CDE-BB20-4867-B212-FD6B7D1C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C2BCE-962B-4581-87CC-96963B5A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92CCC-07ED-4291-9189-A86221F3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5E50-DFD1-4A55-A052-80B17F3F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50E23-6D57-442A-9A9C-1C6C86F55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4A8D83-9320-4961-A43E-1DF1F2E8F4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198F4-6E49-4942-B0D7-30467608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73B372-7509-4B58-A658-DE6FCEB7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F7A67-703B-41CC-8CD8-E9589A5E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6586CA-DD63-4918-8180-81C39BF2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A8515C-65BB-4F34-B23B-0CBBD83B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B00058-EF2A-46D1-974B-39264CD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655E4C-7773-4F79-BB3C-6747372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656C2-3440-4D67-BCA3-FCB3A730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2C13-CD39-45B5-A0B7-9E623C1E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EF6CE7-646D-4C9D-A5A8-0F321EB6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E4F62-338E-4BA8-9083-69EA267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ED18C5-710C-4E0A-B86F-62B6E2CC8F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E35F-3F38-4CAF-A55B-4F15DBD05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3F13E-5162-42C2-BAEA-09818617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A5D6-5A24-4F9D-8831-71C4A54A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EE0EB-99F1-4504-B8DE-1D547411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8A0F-AB06-4932-9DF7-46069AC5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5B42-B21C-4FCE-9440-18571623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ABB0-0F56-4D6A-810B-1FF8EE0B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E9EF-44D8-46B1-A683-2A42365B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1EE1E-47F4-455A-A2C1-EE9AFE57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D1612-AA9F-49FD-9926-55B6F357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F62F5-B961-4CAA-8559-62C13C52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5D223-C0A7-4A03-8FDB-70F8FF5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40D04-5D37-4C8F-AAAF-2AF4E9AE8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D0D71-4D4F-4117-82AD-243A94B07F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DCBFC-A498-4BB6-B42B-B2912BD1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296EB-A444-4B37-B7C0-CA365D87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B9092-BF95-49E5-9493-44385B98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F40CF-AE00-438B-B561-B1C6B743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E7F6-208A-4069-85E3-E4CB225D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91CD9-B964-4466-9D78-61858A34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2DED5-B1D7-419C-97EE-6596AF5E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5A039-DC88-45E7-AEED-1A343248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2240C-D35D-4E40-9386-048DE4B1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4D474-B6E9-45D1-A103-9A58433E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C651B-3674-4CE3-9CFC-0A801DB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6578F-52D5-488C-99E2-CAC01A0887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F2AC81-25CA-4525-8868-4236E7FF5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BD9FF8-35F3-49AE-B6C7-D3E7A324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B03CA5-D887-443D-B357-1914E99C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3835-1DF0-435A-817F-6AE39F4AFFF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5019-3D15-4A28-9293-809FD550D1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152A-21CA-40FB-958D-6ED8D76125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84A5-5485-4CDE-9207-06A22A19838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4E13-6BC2-4A51-A53D-11EECF4F2D2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37B5-6EAE-41CE-8878-51CD6F6F21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C457-6663-4CCA-B562-FD412F854C6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EF82-1324-4CC5-844C-3625A6D148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0E8A-249F-4F58-A38A-202DA4BAEF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FDA2-815C-4508-8477-CA1E978546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4441-F0D3-49FF-A273-FBA1662D5E2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55B0-1587-4979-BB8D-CCC8288A53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5F15-3C00-4CBB-9B71-489FAE7C52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794B-2DE5-46B1-B495-1282E7A666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8E88-6BF0-4714-9BC1-47BDDE9EB3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A372-B722-4A57-AAD8-0780FFB9AF0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3ADA-C746-453F-9E90-338FEC18DAE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A61C-C123-48F8-91D9-155C4C8C64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EFEE-BD8C-4BE3-92D2-0BD778D3F0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43E9-FD46-4772-9B23-90E9C3E45C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FB51-D72D-4A39-82D3-9692787AB0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06CC-18A2-4CF4-BB51-6EAA218B8B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D383-7DE3-4B89-A909-8C7505CBD9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EAD4-FE6F-43D9-99E7-EBE4168496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0.jpeg"/><Relationship Id="rId11" Type="http://schemas.openxmlformats.org/officeDocument/2006/relationships/image" Target="../media/image40.jpeg"/><Relationship Id="rId12" Type="http://schemas.openxmlformats.org/officeDocument/2006/relationships/image" Target="../media/image40.jpeg"/><Relationship Id="rId13" Type="http://schemas.openxmlformats.org/officeDocument/2006/relationships/image" Target="../media/image40.jpeg"/><Relationship Id="rId14" Type="http://schemas.openxmlformats.org/officeDocument/2006/relationships/image" Target="../media/image40.jpeg"/><Relationship Id="rId15" Type="http://schemas.openxmlformats.org/officeDocument/2006/relationships/image" Target="../media/image40.jpeg"/><Relationship Id="rId16" Type="http://schemas.openxmlformats.org/officeDocument/2006/relationships/image" Target="../media/image40.jpeg"/><Relationship Id="rId17" Type="http://schemas.openxmlformats.org/officeDocument/2006/relationships/image" Target="../media/image40.jpeg"/><Relationship Id="rId18" Type="http://schemas.openxmlformats.org/officeDocument/2006/relationships/image" Target="../media/image40.jpeg"/><Relationship Id="rId19" Type="http://schemas.openxmlformats.org/officeDocument/2006/relationships/image" Target="../media/image40.jpeg"/><Relationship Id="rId20" Type="http://schemas.openxmlformats.org/officeDocument/2006/relationships/image" Target="../media/image40.jpeg"/><Relationship Id="rId21" Type="http://schemas.openxmlformats.org/officeDocument/2006/relationships/image" Target="../media/image40.jpeg"/><Relationship Id="rId22" Type="http://schemas.openxmlformats.org/officeDocument/2006/relationships/image" Target="../media/image40.jpeg"/><Relationship Id="rId23" Type="http://schemas.openxmlformats.org/officeDocument/2006/relationships/image" Target="../media/image40.jpeg"/><Relationship Id="rId24" Type="http://schemas.openxmlformats.org/officeDocument/2006/relationships/image" Target="../media/image40.jpeg"/><Relationship Id="rId25" Type="http://schemas.openxmlformats.org/officeDocument/2006/relationships/image" Target="../media/image40.jpeg"/><Relationship Id="rId26" Type="http://schemas.openxmlformats.org/officeDocument/2006/relationships/image" Target="../media/image40.jpeg"/><Relationship Id="rId27" Type="http://schemas.openxmlformats.org/officeDocument/2006/relationships/image" Target="../media/image40.jpeg"/><Relationship Id="rId28" Type="http://schemas.openxmlformats.org/officeDocument/2006/relationships/image" Target="../media/image40.jpeg"/><Relationship Id="rId29" Type="http://schemas.openxmlformats.org/officeDocument/2006/relationships/image" Target="../media/image40.jpeg"/><Relationship Id="rId30" Type="http://schemas.openxmlformats.org/officeDocument/2006/relationships/image" Target="../media/image40.jpeg"/><Relationship Id="rId31" Type="http://schemas.openxmlformats.org/officeDocument/2006/relationships/image" Target="../media/image40.jpeg"/><Relationship Id="rId32" Type="http://schemas.openxmlformats.org/officeDocument/2006/relationships/image" Target="../media/image40.jpeg"/><Relationship Id="rId33" Type="http://schemas.openxmlformats.org/officeDocument/2006/relationships/image" Target="../media/image40.jpeg"/><Relationship Id="rId34" Type="http://schemas.openxmlformats.org/officeDocument/2006/relationships/image" Target="../media/image40.jpeg"/><Relationship Id="rId35" Type="http://schemas.openxmlformats.org/officeDocument/2006/relationships/image" Target="../media/image40.jpeg"/><Relationship Id="rId36" Type="http://schemas.openxmlformats.org/officeDocument/2006/relationships/image" Target="../media/image40.jpeg"/><Relationship Id="rId37" Type="http://schemas.openxmlformats.org/officeDocument/2006/relationships/image" Target="../media/image40.jpeg"/><Relationship Id="rId38" Type="http://schemas.openxmlformats.org/officeDocument/2006/relationships/image" Target="../media/image40.jpeg"/><Relationship Id="rId39" Type="http://schemas.openxmlformats.org/officeDocument/2006/relationships/image" Target="../media/image40.jpe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43.png"/><Relationship Id="rId43" Type="http://schemas.openxmlformats.org/officeDocument/2006/relationships/image" Target="../media/image44.png"/><Relationship Id="rId4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pu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pu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audio" Target="../media/YOUYONG.WAV"/><Relationship Id="rId1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30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23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25.png"/><Relationship Id="rId15" Type="http://schemas.openxmlformats.org/officeDocument/2006/relationships/image" Target="../media/image21.png"/><Relationship Id="rId16" Type="http://schemas.openxmlformats.org/officeDocument/2006/relationships/image" Target="../media/image29.png"/><Relationship Id="rId17" Type="http://schemas.openxmlformats.org/officeDocument/2006/relationships/image" Target="../media/image31.png"/><Relationship Id="rId18" Type="http://schemas.openxmlformats.org/officeDocument/2006/relationships/image" Target="../media/image34.png"/><Relationship Id="rId19" Type="http://schemas.openxmlformats.org/officeDocument/2006/relationships/image" Target="../media/image24.png"/><Relationship Id="rId20" Type="http://schemas.openxmlformats.org/officeDocument/2006/relationships/image" Target="../media/image35.png"/><Relationship Id="rId21" Type="http://schemas.openxmlformats.org/officeDocument/2006/relationships/image" Target="../media/image36.jpeg"/><Relationship Id="rId2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860480" y="27558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上、下、前、后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738360" y="1816200"/>
            <a:ext cx="61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 置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2" descr="2ab8ff14d3fbcc49952b4375"/>
          <p:cNvPicPr/>
          <p:nvPr/>
        </p:nvPicPr>
        <p:blipFill>
          <a:blip r:embed="rId1"/>
          <a:srcRect l="0" t="0" r="35035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3" name="Group 3"/>
          <p:cNvGrpSpPr/>
          <p:nvPr/>
        </p:nvGrpSpPr>
        <p:grpSpPr>
          <a:xfrm>
            <a:off x="0" y="-104760"/>
            <a:ext cx="9144000" cy="6881400"/>
            <a:chOff x="0" y="-104760"/>
            <a:chExt cx="9144000" cy="6881400"/>
          </a:xfrm>
        </p:grpSpPr>
        <p:grpSp>
          <p:nvGrpSpPr>
            <p:cNvPr id="1144" name="Group 4"/>
            <p:cNvGrpSpPr/>
            <p:nvPr/>
          </p:nvGrpSpPr>
          <p:grpSpPr>
            <a:xfrm>
              <a:off x="0" y="-104760"/>
              <a:ext cx="9143640" cy="5513040"/>
              <a:chOff x="0" y="-104760"/>
              <a:chExt cx="9143640" cy="5513040"/>
            </a:xfrm>
          </p:grpSpPr>
          <p:pic>
            <p:nvPicPr>
              <p:cNvPr id="1145" name="Picture 5" descr="乘车图1"/>
              <p:cNvPicPr/>
              <p:nvPr/>
            </p:nvPicPr>
            <p:blipFill>
              <a:blip r:embed="rId2"/>
              <a:srcRect l="0" t="0" r="1807" b="41975"/>
              <a:stretch/>
            </p:blipFill>
            <p:spPr>
              <a:xfrm>
                <a:off x="0" y="-104760"/>
                <a:ext cx="9143640" cy="379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Picture 6" descr="乘车图1"/>
              <p:cNvPicPr/>
              <p:nvPr/>
            </p:nvPicPr>
            <p:blipFill>
              <a:blip r:embed="rId3"/>
              <a:srcRect l="12455" t="57216" r="1968" b="16529"/>
              <a:stretch/>
            </p:blipFill>
            <p:spPr>
              <a:xfrm>
                <a:off x="1173600" y="3690000"/>
                <a:ext cx="7970040" cy="171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Picture 7" descr="乘车图1"/>
              <p:cNvPicPr/>
              <p:nvPr/>
            </p:nvPicPr>
            <p:blipFill>
              <a:blip r:embed="rId4"/>
              <a:srcRect l="30106" t="57216" r="56915" b="16529"/>
              <a:stretch/>
            </p:blipFill>
            <p:spPr>
              <a:xfrm>
                <a:off x="0" y="3690000"/>
                <a:ext cx="1207800" cy="1718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48" name="Picture 8" descr="乘车图1"/>
            <p:cNvPicPr/>
            <p:nvPr/>
          </p:nvPicPr>
          <p:blipFill>
            <a:blip r:embed="rId5"/>
            <a:srcRect l="12455" t="66471" r="6479" b="13467"/>
            <a:stretch/>
          </p:blipFill>
          <p:spPr>
            <a:xfrm>
              <a:off x="0" y="5277240"/>
              <a:ext cx="9144000" cy="149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12296"/>
          <p:cNvGrpSpPr/>
          <p:nvPr/>
        </p:nvGrpSpPr>
        <p:grpSpPr>
          <a:xfrm>
            <a:off x="7308720" y="3141720"/>
            <a:ext cx="2016000" cy="3716280"/>
            <a:chOff x="7308720" y="3141720"/>
            <a:chExt cx="2016000" cy="3716280"/>
          </a:xfrm>
        </p:grpSpPr>
        <p:pic>
          <p:nvPicPr>
            <p:cNvPr id="1150" name="Picture 9" descr="乘车图2完成"/>
            <p:cNvPicPr/>
            <p:nvPr/>
          </p:nvPicPr>
          <p:blipFill>
            <a:blip r:embed="rId6"/>
            <a:stretch/>
          </p:blipFill>
          <p:spPr>
            <a:xfrm>
              <a:off x="7308720" y="3141720"/>
              <a:ext cx="1608480" cy="37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Text Box 10"/>
            <p:cNvSpPr/>
            <p:nvPr/>
          </p:nvSpPr>
          <p:spPr>
            <a:xfrm>
              <a:off x="8028000" y="3549600"/>
              <a:ext cx="12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小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11"/>
            <p:cNvSpPr/>
            <p:nvPr/>
          </p:nvSpPr>
          <p:spPr>
            <a:xfrm>
              <a:off x="8082000" y="4484520"/>
              <a:ext cx="12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小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12"/>
            <p:cNvSpPr/>
            <p:nvPr/>
          </p:nvSpPr>
          <p:spPr>
            <a:xfrm>
              <a:off x="7432560" y="3189240"/>
              <a:ext cx="12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强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Text Box 13"/>
          <p:cNvSpPr/>
          <p:nvPr/>
        </p:nvSpPr>
        <p:spPr>
          <a:xfrm>
            <a:off x="6948360" y="198900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方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6066000" y="1700280"/>
            <a:ext cx="12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亮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082600" y="2708280"/>
            <a:ext cx="4865400" cy="30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方方的前面是（        ），</a:t>
            </a:r>
            <a:br>
              <a:rPr sz="2100"/>
            </a:b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方方的后面是（        ），</a:t>
            </a:r>
            <a:br>
              <a:rPr sz="2100"/>
            </a:b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小英在小宁的（        ）面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4"/>
          <p:cNvSpPr/>
          <p:nvPr/>
        </p:nvSpPr>
        <p:spPr>
          <a:xfrm>
            <a:off x="4673520" y="3375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亮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4"/>
          <p:cNvSpPr/>
          <p:nvPr/>
        </p:nvSpPr>
        <p:spPr>
          <a:xfrm>
            <a:off x="4673520" y="4038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强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4"/>
          <p:cNvSpPr/>
          <p:nvPr/>
        </p:nvSpPr>
        <p:spPr>
          <a:xfrm>
            <a:off x="4673520" y="4686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2" name="Picture 2" descr="2ab8ff14d3fbcc49952b4375"/>
          <p:cNvPicPr/>
          <p:nvPr/>
        </p:nvPicPr>
        <p:blipFill>
          <a:blip r:embed="rId1"/>
          <a:srcRect l="0" t="0" r="35035" b="4862"/>
          <a:stretch/>
        </p:blipFill>
        <p:spPr>
          <a:xfrm>
            <a:off x="19080" y="792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3" name="Group 93"/>
          <p:cNvGrpSpPr/>
          <p:nvPr/>
        </p:nvGrpSpPr>
        <p:grpSpPr>
          <a:xfrm>
            <a:off x="19080" y="436680"/>
            <a:ext cx="8748360" cy="5688360"/>
            <a:chOff x="19080" y="436680"/>
            <a:chExt cx="8748360" cy="5688360"/>
          </a:xfrm>
        </p:grpSpPr>
        <p:grpSp>
          <p:nvGrpSpPr>
            <p:cNvPr id="1164" name="Group 50"/>
            <p:cNvGrpSpPr/>
            <p:nvPr/>
          </p:nvGrpSpPr>
          <p:grpSpPr>
            <a:xfrm>
              <a:off x="5564160" y="436680"/>
              <a:ext cx="1368360" cy="5688360"/>
              <a:chOff x="5564160" y="436680"/>
              <a:chExt cx="1368360" cy="5688360"/>
            </a:xfrm>
          </p:grpSpPr>
          <p:grpSp>
            <p:nvGrpSpPr>
              <p:cNvPr id="1165" name="Group 51"/>
              <p:cNvGrpSpPr/>
              <p:nvPr/>
            </p:nvGrpSpPr>
            <p:grpSpPr>
              <a:xfrm>
                <a:off x="5564160" y="436680"/>
                <a:ext cx="504720" cy="5677560"/>
                <a:chOff x="5564160" y="436680"/>
                <a:chExt cx="504720" cy="5677560"/>
              </a:xfrm>
            </p:grpSpPr>
            <p:pic>
              <p:nvPicPr>
                <p:cNvPr id="1166" name="Picture 52" descr="游泳3"/>
                <p:cNvPicPr/>
                <p:nvPr/>
              </p:nvPicPr>
              <p:blipFill>
                <a:blip r:embed="rId2"/>
                <a:srcRect l="42690" t="0" r="51177" b="0"/>
                <a:stretch/>
              </p:blipFill>
              <p:spPr>
                <a:xfrm>
                  <a:off x="5564160" y="436680"/>
                  <a:ext cx="504720" cy="567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7" name="Picture 53" descr="游泳3"/>
                <p:cNvPicPr/>
                <p:nvPr/>
              </p:nvPicPr>
              <p:blipFill>
                <a:blip r:embed="rId3"/>
                <a:srcRect l="30459" t="0" r="63430" b="77138"/>
                <a:stretch/>
              </p:blipFill>
              <p:spPr>
                <a:xfrm>
                  <a:off x="5564160" y="436680"/>
                  <a:ext cx="503280" cy="129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68" name="Group 54"/>
              <p:cNvGrpSpPr/>
              <p:nvPr/>
            </p:nvGrpSpPr>
            <p:grpSpPr>
              <a:xfrm>
                <a:off x="5995800" y="436680"/>
                <a:ext cx="504720" cy="5677560"/>
                <a:chOff x="5995800" y="436680"/>
                <a:chExt cx="504720" cy="5677560"/>
              </a:xfrm>
            </p:grpSpPr>
            <p:pic>
              <p:nvPicPr>
                <p:cNvPr id="1169" name="Picture 55" descr="游泳3"/>
                <p:cNvPicPr/>
                <p:nvPr/>
              </p:nvPicPr>
              <p:blipFill>
                <a:blip r:embed="rId4"/>
                <a:srcRect l="42690" t="0" r="51177" b="0"/>
                <a:stretch/>
              </p:blipFill>
              <p:spPr>
                <a:xfrm>
                  <a:off x="5995800" y="436680"/>
                  <a:ext cx="504720" cy="567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Picture 56" descr="游泳3"/>
                <p:cNvPicPr/>
                <p:nvPr/>
              </p:nvPicPr>
              <p:blipFill>
                <a:blip r:embed="rId5"/>
                <a:srcRect l="30459" t="0" r="63430" b="77138"/>
                <a:stretch/>
              </p:blipFill>
              <p:spPr>
                <a:xfrm>
                  <a:off x="5995800" y="436680"/>
                  <a:ext cx="503280" cy="129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1" name="Group 57"/>
              <p:cNvGrpSpPr/>
              <p:nvPr/>
            </p:nvGrpSpPr>
            <p:grpSpPr>
              <a:xfrm>
                <a:off x="6427800" y="447480"/>
                <a:ext cx="504720" cy="5677560"/>
                <a:chOff x="6427800" y="447480"/>
                <a:chExt cx="504720" cy="5677560"/>
              </a:xfrm>
            </p:grpSpPr>
            <p:pic>
              <p:nvPicPr>
                <p:cNvPr id="1172" name="Picture 58" descr="游泳3"/>
                <p:cNvPicPr/>
                <p:nvPr/>
              </p:nvPicPr>
              <p:blipFill>
                <a:blip r:embed="rId6"/>
                <a:srcRect l="42690" t="0" r="51177" b="0"/>
                <a:stretch/>
              </p:blipFill>
              <p:spPr>
                <a:xfrm>
                  <a:off x="6427800" y="447480"/>
                  <a:ext cx="504720" cy="567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Picture 59" descr="游泳3"/>
                <p:cNvPicPr/>
                <p:nvPr/>
              </p:nvPicPr>
              <p:blipFill>
                <a:blip r:embed="rId7"/>
                <a:srcRect l="30459" t="0" r="63430" b="77138"/>
                <a:stretch/>
              </p:blipFill>
              <p:spPr>
                <a:xfrm>
                  <a:off x="6427800" y="447480"/>
                  <a:ext cx="503280" cy="129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74" name="Group 92"/>
            <p:cNvGrpSpPr/>
            <p:nvPr/>
          </p:nvGrpSpPr>
          <p:grpSpPr>
            <a:xfrm>
              <a:off x="19080" y="436680"/>
              <a:ext cx="8748360" cy="5687640"/>
              <a:chOff x="19080" y="436680"/>
              <a:chExt cx="8748360" cy="5687640"/>
            </a:xfrm>
          </p:grpSpPr>
          <p:pic>
            <p:nvPicPr>
              <p:cNvPr id="1175" name="Picture 7" descr="游泳3"/>
              <p:cNvPicPr/>
              <p:nvPr/>
            </p:nvPicPr>
            <p:blipFill>
              <a:blip r:embed="rId8"/>
              <a:srcRect l="1562" t="0" r="93176" b="0"/>
              <a:stretch/>
            </p:blipFill>
            <p:spPr>
              <a:xfrm>
                <a:off x="19080" y="436680"/>
                <a:ext cx="433440" cy="5677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Group 90"/>
              <p:cNvGrpSpPr/>
              <p:nvPr/>
            </p:nvGrpSpPr>
            <p:grpSpPr>
              <a:xfrm>
                <a:off x="379440" y="436680"/>
                <a:ext cx="7920000" cy="5687640"/>
                <a:chOff x="379440" y="436680"/>
                <a:chExt cx="7920000" cy="5687640"/>
              </a:xfrm>
            </p:grpSpPr>
            <p:grpSp>
              <p:nvGrpSpPr>
                <p:cNvPr id="1177" name="Group 48"/>
                <p:cNvGrpSpPr/>
                <p:nvPr/>
              </p:nvGrpSpPr>
              <p:grpSpPr>
                <a:xfrm>
                  <a:off x="379440" y="436680"/>
                  <a:ext cx="5256000" cy="5687280"/>
                  <a:chOff x="379440" y="436680"/>
                  <a:chExt cx="5256000" cy="5687280"/>
                </a:xfrm>
              </p:grpSpPr>
              <p:grpSp>
                <p:nvGrpSpPr>
                  <p:cNvPr id="1178" name="Group 17"/>
                  <p:cNvGrpSpPr/>
                  <p:nvPr/>
                </p:nvGrpSpPr>
                <p:grpSpPr>
                  <a:xfrm>
                    <a:off x="379440" y="436680"/>
                    <a:ext cx="1368360" cy="5687280"/>
                    <a:chOff x="379440" y="436680"/>
                    <a:chExt cx="1368360" cy="5687280"/>
                  </a:xfrm>
                </p:grpSpPr>
                <p:grpSp>
                  <p:nvGrpSpPr>
                    <p:cNvPr id="1179" name="Group 10"/>
                    <p:cNvGrpSpPr/>
                    <p:nvPr/>
                  </p:nvGrpSpPr>
                  <p:grpSpPr>
                    <a:xfrm>
                      <a:off x="379440" y="436680"/>
                      <a:ext cx="504720" cy="5676480"/>
                      <a:chOff x="379440" y="436680"/>
                      <a:chExt cx="504720" cy="5676480"/>
                    </a:xfrm>
                  </p:grpSpPr>
                  <p:pic>
                    <p:nvPicPr>
                      <p:cNvPr id="1180" name="Picture 8" descr="游泳3"/>
                      <p:cNvPicPr/>
                      <p:nvPr/>
                    </p:nvPicPr>
                    <p:blipFill>
                      <a:blip r:embed="rId9"/>
                      <a:srcRect l="42690" t="0" r="51177" b="0"/>
                      <a:stretch/>
                    </p:blipFill>
                    <p:spPr>
                      <a:xfrm>
                        <a:off x="379440" y="4366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181" name="Picture 9" descr="游泳3"/>
                      <p:cNvPicPr/>
                      <p:nvPr/>
                    </p:nvPicPr>
                    <p:blipFill>
                      <a:blip r:embed="rId10"/>
                      <a:srcRect l="30459" t="0" r="63430" b="77138"/>
                      <a:stretch/>
                    </p:blipFill>
                    <p:spPr>
                      <a:xfrm>
                        <a:off x="379440" y="4366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182" name="Group 11"/>
                    <p:cNvGrpSpPr/>
                    <p:nvPr/>
                  </p:nvGrpSpPr>
                  <p:grpSpPr>
                    <a:xfrm>
                      <a:off x="811080" y="436680"/>
                      <a:ext cx="504720" cy="5676480"/>
                      <a:chOff x="811080" y="436680"/>
                      <a:chExt cx="504720" cy="5676480"/>
                    </a:xfrm>
                  </p:grpSpPr>
                  <p:pic>
                    <p:nvPicPr>
                      <p:cNvPr id="1183" name="Picture 12" descr="游泳3"/>
                      <p:cNvPicPr/>
                      <p:nvPr/>
                    </p:nvPicPr>
                    <p:blipFill>
                      <a:blip r:embed="rId11"/>
                      <a:srcRect l="42690" t="0" r="51177" b="0"/>
                      <a:stretch/>
                    </p:blipFill>
                    <p:spPr>
                      <a:xfrm>
                        <a:off x="811080" y="4366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184" name="Picture 13" descr="游泳3"/>
                      <p:cNvPicPr/>
                      <p:nvPr/>
                    </p:nvPicPr>
                    <p:blipFill>
                      <a:blip r:embed="rId12"/>
                      <a:srcRect l="30459" t="0" r="63430" b="77138"/>
                      <a:stretch/>
                    </p:blipFill>
                    <p:spPr>
                      <a:xfrm>
                        <a:off x="811080" y="4366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185" name="Group 14"/>
                    <p:cNvGrpSpPr/>
                    <p:nvPr/>
                  </p:nvGrpSpPr>
                  <p:grpSpPr>
                    <a:xfrm>
                      <a:off x="1243080" y="447480"/>
                      <a:ext cx="504720" cy="5676480"/>
                      <a:chOff x="1243080" y="447480"/>
                      <a:chExt cx="504720" cy="5676480"/>
                    </a:xfrm>
                  </p:grpSpPr>
                  <p:pic>
                    <p:nvPicPr>
                      <p:cNvPr id="1186" name="Picture 15" descr="游泳3"/>
                      <p:cNvPicPr/>
                      <p:nvPr/>
                    </p:nvPicPr>
                    <p:blipFill>
                      <a:blip r:embed="rId13"/>
                      <a:srcRect l="42690" t="0" r="51177" b="0"/>
                      <a:stretch/>
                    </p:blipFill>
                    <p:spPr>
                      <a:xfrm>
                        <a:off x="1243080" y="4474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187" name="Picture 16" descr="游泳3"/>
                      <p:cNvPicPr/>
                      <p:nvPr/>
                    </p:nvPicPr>
                    <p:blipFill>
                      <a:blip r:embed="rId14"/>
                      <a:srcRect l="30459" t="0" r="63430" b="77138"/>
                      <a:stretch/>
                    </p:blipFill>
                    <p:spPr>
                      <a:xfrm>
                        <a:off x="1243080" y="4474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188" name="Group 18"/>
                  <p:cNvGrpSpPr/>
                  <p:nvPr/>
                </p:nvGrpSpPr>
                <p:grpSpPr>
                  <a:xfrm>
                    <a:off x="1674720" y="436680"/>
                    <a:ext cx="1368360" cy="5687280"/>
                    <a:chOff x="1674720" y="436680"/>
                    <a:chExt cx="1368360" cy="5687280"/>
                  </a:xfrm>
                </p:grpSpPr>
                <p:grpSp>
                  <p:nvGrpSpPr>
                    <p:cNvPr id="1189" name="Group 19"/>
                    <p:cNvGrpSpPr/>
                    <p:nvPr/>
                  </p:nvGrpSpPr>
                  <p:grpSpPr>
                    <a:xfrm>
                      <a:off x="1674720" y="436680"/>
                      <a:ext cx="504720" cy="5676480"/>
                      <a:chOff x="1674720" y="436680"/>
                      <a:chExt cx="504720" cy="5676480"/>
                    </a:xfrm>
                  </p:grpSpPr>
                  <p:pic>
                    <p:nvPicPr>
                      <p:cNvPr id="1190" name="Picture 20" descr="游泳3"/>
                      <p:cNvPicPr/>
                      <p:nvPr/>
                    </p:nvPicPr>
                    <p:blipFill>
                      <a:blip r:embed="rId15"/>
                      <a:srcRect l="42690" t="0" r="51177" b="0"/>
                      <a:stretch/>
                    </p:blipFill>
                    <p:spPr>
                      <a:xfrm>
                        <a:off x="1674720" y="4366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191" name="Picture 21" descr="游泳3"/>
                      <p:cNvPicPr/>
                      <p:nvPr/>
                    </p:nvPicPr>
                    <p:blipFill>
                      <a:blip r:embed="rId16"/>
                      <a:srcRect l="30459" t="0" r="63430" b="77138"/>
                      <a:stretch/>
                    </p:blipFill>
                    <p:spPr>
                      <a:xfrm>
                        <a:off x="1674720" y="4366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192" name="Group 22"/>
                    <p:cNvGrpSpPr/>
                    <p:nvPr/>
                  </p:nvGrpSpPr>
                  <p:grpSpPr>
                    <a:xfrm>
                      <a:off x="2106360" y="436680"/>
                      <a:ext cx="504720" cy="5676480"/>
                      <a:chOff x="2106360" y="436680"/>
                      <a:chExt cx="504720" cy="5676480"/>
                    </a:xfrm>
                  </p:grpSpPr>
                  <p:pic>
                    <p:nvPicPr>
                      <p:cNvPr id="1193" name="Picture 23" descr="游泳3"/>
                      <p:cNvPicPr/>
                      <p:nvPr/>
                    </p:nvPicPr>
                    <p:blipFill>
                      <a:blip r:embed="rId17"/>
                      <a:srcRect l="42690" t="0" r="51177" b="0"/>
                      <a:stretch/>
                    </p:blipFill>
                    <p:spPr>
                      <a:xfrm>
                        <a:off x="2106360" y="4366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194" name="Picture 24" descr="游泳3"/>
                      <p:cNvPicPr/>
                      <p:nvPr/>
                    </p:nvPicPr>
                    <p:blipFill>
                      <a:blip r:embed="rId18"/>
                      <a:srcRect l="30459" t="0" r="63430" b="77138"/>
                      <a:stretch/>
                    </p:blipFill>
                    <p:spPr>
                      <a:xfrm>
                        <a:off x="2106360" y="4366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195" name="Group 25"/>
                    <p:cNvGrpSpPr/>
                    <p:nvPr/>
                  </p:nvGrpSpPr>
                  <p:grpSpPr>
                    <a:xfrm>
                      <a:off x="2538360" y="447480"/>
                      <a:ext cx="504720" cy="5676480"/>
                      <a:chOff x="2538360" y="447480"/>
                      <a:chExt cx="504720" cy="5676480"/>
                    </a:xfrm>
                  </p:grpSpPr>
                  <p:pic>
                    <p:nvPicPr>
                      <p:cNvPr id="1196" name="Picture 26" descr="游泳3"/>
                      <p:cNvPicPr/>
                      <p:nvPr/>
                    </p:nvPicPr>
                    <p:blipFill>
                      <a:blip r:embed="rId19"/>
                      <a:srcRect l="42690" t="0" r="51177" b="0"/>
                      <a:stretch/>
                    </p:blipFill>
                    <p:spPr>
                      <a:xfrm>
                        <a:off x="2538360" y="4474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197" name="Picture 27" descr="游泳3"/>
                      <p:cNvPicPr/>
                      <p:nvPr/>
                    </p:nvPicPr>
                    <p:blipFill>
                      <a:blip r:embed="rId20"/>
                      <a:srcRect l="30459" t="0" r="63430" b="77138"/>
                      <a:stretch/>
                    </p:blipFill>
                    <p:spPr>
                      <a:xfrm>
                        <a:off x="2538360" y="4474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198" name="Group 28"/>
                  <p:cNvGrpSpPr/>
                  <p:nvPr/>
                </p:nvGrpSpPr>
                <p:grpSpPr>
                  <a:xfrm>
                    <a:off x="2970360" y="436680"/>
                    <a:ext cx="1368360" cy="5687280"/>
                    <a:chOff x="2970360" y="436680"/>
                    <a:chExt cx="1368360" cy="5687280"/>
                  </a:xfrm>
                </p:grpSpPr>
                <p:grpSp>
                  <p:nvGrpSpPr>
                    <p:cNvPr id="1199" name="Group 29"/>
                    <p:cNvGrpSpPr/>
                    <p:nvPr/>
                  </p:nvGrpSpPr>
                  <p:grpSpPr>
                    <a:xfrm>
                      <a:off x="2970360" y="436680"/>
                      <a:ext cx="504720" cy="5676480"/>
                      <a:chOff x="2970360" y="436680"/>
                      <a:chExt cx="504720" cy="5676480"/>
                    </a:xfrm>
                  </p:grpSpPr>
                  <p:pic>
                    <p:nvPicPr>
                      <p:cNvPr id="1200" name="Picture 30" descr="游泳3"/>
                      <p:cNvPicPr/>
                      <p:nvPr/>
                    </p:nvPicPr>
                    <p:blipFill>
                      <a:blip r:embed="rId21"/>
                      <a:srcRect l="42690" t="0" r="51177" b="0"/>
                      <a:stretch/>
                    </p:blipFill>
                    <p:spPr>
                      <a:xfrm>
                        <a:off x="2970360" y="4366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01" name="Picture 31" descr="游泳3"/>
                      <p:cNvPicPr/>
                      <p:nvPr/>
                    </p:nvPicPr>
                    <p:blipFill>
                      <a:blip r:embed="rId22"/>
                      <a:srcRect l="30459" t="0" r="63430" b="77138"/>
                      <a:stretch/>
                    </p:blipFill>
                    <p:spPr>
                      <a:xfrm>
                        <a:off x="2970360" y="4366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02" name="Group 32"/>
                    <p:cNvGrpSpPr/>
                    <p:nvPr/>
                  </p:nvGrpSpPr>
                  <p:grpSpPr>
                    <a:xfrm>
                      <a:off x="3402000" y="436680"/>
                      <a:ext cx="504720" cy="5676480"/>
                      <a:chOff x="3402000" y="436680"/>
                      <a:chExt cx="504720" cy="5676480"/>
                    </a:xfrm>
                  </p:grpSpPr>
                  <p:pic>
                    <p:nvPicPr>
                      <p:cNvPr id="1203" name="Picture 33" descr="游泳3"/>
                      <p:cNvPicPr/>
                      <p:nvPr/>
                    </p:nvPicPr>
                    <p:blipFill>
                      <a:blip r:embed="rId23"/>
                      <a:srcRect l="42690" t="0" r="51177" b="0"/>
                      <a:stretch/>
                    </p:blipFill>
                    <p:spPr>
                      <a:xfrm>
                        <a:off x="3402000" y="4366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04" name="Picture 34" descr="游泳3"/>
                      <p:cNvPicPr/>
                      <p:nvPr/>
                    </p:nvPicPr>
                    <p:blipFill>
                      <a:blip r:embed="rId24"/>
                      <a:srcRect l="30459" t="0" r="63430" b="77138"/>
                      <a:stretch/>
                    </p:blipFill>
                    <p:spPr>
                      <a:xfrm>
                        <a:off x="3402000" y="4366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05" name="Group 35"/>
                    <p:cNvGrpSpPr/>
                    <p:nvPr/>
                  </p:nvGrpSpPr>
                  <p:grpSpPr>
                    <a:xfrm>
                      <a:off x="3834000" y="447480"/>
                      <a:ext cx="504720" cy="5676480"/>
                      <a:chOff x="3834000" y="447480"/>
                      <a:chExt cx="504720" cy="5676480"/>
                    </a:xfrm>
                  </p:grpSpPr>
                  <p:pic>
                    <p:nvPicPr>
                      <p:cNvPr id="1206" name="Picture 36" descr="游泳3"/>
                      <p:cNvPicPr/>
                      <p:nvPr/>
                    </p:nvPicPr>
                    <p:blipFill>
                      <a:blip r:embed="rId25"/>
                      <a:srcRect l="42690" t="0" r="51177" b="0"/>
                      <a:stretch/>
                    </p:blipFill>
                    <p:spPr>
                      <a:xfrm>
                        <a:off x="3834000" y="4474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07" name="Picture 37" descr="游泳3"/>
                      <p:cNvPicPr/>
                      <p:nvPr/>
                    </p:nvPicPr>
                    <p:blipFill>
                      <a:blip r:embed="rId26"/>
                      <a:srcRect l="30459" t="0" r="63430" b="77138"/>
                      <a:stretch/>
                    </p:blipFill>
                    <p:spPr>
                      <a:xfrm>
                        <a:off x="3834000" y="4474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208" name="Group 38"/>
                  <p:cNvGrpSpPr/>
                  <p:nvPr/>
                </p:nvGrpSpPr>
                <p:grpSpPr>
                  <a:xfrm>
                    <a:off x="4267080" y="436680"/>
                    <a:ext cx="1368360" cy="5687280"/>
                    <a:chOff x="4267080" y="436680"/>
                    <a:chExt cx="1368360" cy="5687280"/>
                  </a:xfrm>
                </p:grpSpPr>
                <p:grpSp>
                  <p:nvGrpSpPr>
                    <p:cNvPr id="1209" name="Group 39"/>
                    <p:cNvGrpSpPr/>
                    <p:nvPr/>
                  </p:nvGrpSpPr>
                  <p:grpSpPr>
                    <a:xfrm>
                      <a:off x="4267080" y="436680"/>
                      <a:ext cx="504720" cy="5676480"/>
                      <a:chOff x="4267080" y="436680"/>
                      <a:chExt cx="504720" cy="5676480"/>
                    </a:xfrm>
                  </p:grpSpPr>
                  <p:pic>
                    <p:nvPicPr>
                      <p:cNvPr id="1210" name="Picture 40" descr="游泳3"/>
                      <p:cNvPicPr/>
                      <p:nvPr/>
                    </p:nvPicPr>
                    <p:blipFill>
                      <a:blip r:embed="rId27"/>
                      <a:srcRect l="42690" t="0" r="51177" b="0"/>
                      <a:stretch/>
                    </p:blipFill>
                    <p:spPr>
                      <a:xfrm>
                        <a:off x="4267080" y="4366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11" name="Picture 41" descr="游泳3"/>
                      <p:cNvPicPr/>
                      <p:nvPr/>
                    </p:nvPicPr>
                    <p:blipFill>
                      <a:blip r:embed="rId28"/>
                      <a:srcRect l="30459" t="0" r="63430" b="77138"/>
                      <a:stretch/>
                    </p:blipFill>
                    <p:spPr>
                      <a:xfrm>
                        <a:off x="4267080" y="4366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12" name="Group 42"/>
                    <p:cNvGrpSpPr/>
                    <p:nvPr/>
                  </p:nvGrpSpPr>
                  <p:grpSpPr>
                    <a:xfrm>
                      <a:off x="4698720" y="436680"/>
                      <a:ext cx="504720" cy="5676480"/>
                      <a:chOff x="4698720" y="436680"/>
                      <a:chExt cx="504720" cy="5676480"/>
                    </a:xfrm>
                  </p:grpSpPr>
                  <p:pic>
                    <p:nvPicPr>
                      <p:cNvPr id="1213" name="Picture 43" descr="游泳3"/>
                      <p:cNvPicPr/>
                      <p:nvPr/>
                    </p:nvPicPr>
                    <p:blipFill>
                      <a:blip r:embed="rId29"/>
                      <a:srcRect l="42690" t="0" r="51177" b="0"/>
                      <a:stretch/>
                    </p:blipFill>
                    <p:spPr>
                      <a:xfrm>
                        <a:off x="4698720" y="4366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14" name="Picture 44" descr="游泳3"/>
                      <p:cNvPicPr/>
                      <p:nvPr/>
                    </p:nvPicPr>
                    <p:blipFill>
                      <a:blip r:embed="rId30"/>
                      <a:srcRect l="30459" t="0" r="63430" b="77138"/>
                      <a:stretch/>
                    </p:blipFill>
                    <p:spPr>
                      <a:xfrm>
                        <a:off x="4698720" y="4366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15" name="Group 45"/>
                    <p:cNvGrpSpPr/>
                    <p:nvPr/>
                  </p:nvGrpSpPr>
                  <p:grpSpPr>
                    <a:xfrm>
                      <a:off x="5130720" y="447480"/>
                      <a:ext cx="504720" cy="5676480"/>
                      <a:chOff x="5130720" y="447480"/>
                      <a:chExt cx="504720" cy="5676480"/>
                    </a:xfrm>
                  </p:grpSpPr>
                  <p:pic>
                    <p:nvPicPr>
                      <p:cNvPr id="1216" name="Picture 46" descr="游泳3"/>
                      <p:cNvPicPr/>
                      <p:nvPr/>
                    </p:nvPicPr>
                    <p:blipFill>
                      <a:blip r:embed="rId31"/>
                      <a:srcRect l="42690" t="0" r="51177" b="0"/>
                      <a:stretch/>
                    </p:blipFill>
                    <p:spPr>
                      <a:xfrm>
                        <a:off x="5130720" y="447480"/>
                        <a:ext cx="504720" cy="56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17" name="Picture 47" descr="游泳3"/>
                      <p:cNvPicPr/>
                      <p:nvPr/>
                    </p:nvPicPr>
                    <p:blipFill>
                      <a:blip r:embed="rId32"/>
                      <a:srcRect l="30459" t="0" r="63430" b="77138"/>
                      <a:stretch/>
                    </p:blipFill>
                    <p:spPr>
                      <a:xfrm>
                        <a:off x="5130720" y="447480"/>
                        <a:ext cx="503280" cy="12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  <p:grpSp>
              <p:nvGrpSpPr>
                <p:cNvPr id="1218" name="Group 80"/>
                <p:cNvGrpSpPr/>
                <p:nvPr/>
              </p:nvGrpSpPr>
              <p:grpSpPr>
                <a:xfrm>
                  <a:off x="6931080" y="436680"/>
                  <a:ext cx="1368360" cy="5687640"/>
                  <a:chOff x="6931080" y="436680"/>
                  <a:chExt cx="1368360" cy="5687640"/>
                </a:xfrm>
              </p:grpSpPr>
              <p:grpSp>
                <p:nvGrpSpPr>
                  <p:cNvPr id="1219" name="Group 81"/>
                  <p:cNvGrpSpPr/>
                  <p:nvPr/>
                </p:nvGrpSpPr>
                <p:grpSpPr>
                  <a:xfrm>
                    <a:off x="6931080" y="436680"/>
                    <a:ext cx="504720" cy="5676840"/>
                    <a:chOff x="6931080" y="436680"/>
                    <a:chExt cx="504720" cy="5676840"/>
                  </a:xfrm>
                </p:grpSpPr>
                <p:pic>
                  <p:nvPicPr>
                    <p:cNvPr id="1220" name="Picture 82" descr="游泳3"/>
                    <p:cNvPicPr/>
                    <p:nvPr/>
                  </p:nvPicPr>
                  <p:blipFill>
                    <a:blip r:embed="rId33"/>
                    <a:srcRect l="42690" t="0" r="51177" b="0"/>
                    <a:stretch/>
                  </p:blipFill>
                  <p:spPr>
                    <a:xfrm>
                      <a:off x="6931080" y="436680"/>
                      <a:ext cx="504720" cy="567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21" name="Picture 83" descr="游泳3"/>
                    <p:cNvPicPr/>
                    <p:nvPr/>
                  </p:nvPicPr>
                  <p:blipFill>
                    <a:blip r:embed="rId34"/>
                    <a:srcRect l="30459" t="0" r="63430" b="77138"/>
                    <a:stretch/>
                  </p:blipFill>
                  <p:spPr>
                    <a:xfrm>
                      <a:off x="6931080" y="436680"/>
                      <a:ext cx="503280" cy="12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222" name="Group 84"/>
                  <p:cNvGrpSpPr/>
                  <p:nvPr/>
                </p:nvGrpSpPr>
                <p:grpSpPr>
                  <a:xfrm>
                    <a:off x="7362720" y="436680"/>
                    <a:ext cx="504720" cy="5676840"/>
                    <a:chOff x="7362720" y="436680"/>
                    <a:chExt cx="504720" cy="5676840"/>
                  </a:xfrm>
                </p:grpSpPr>
                <p:pic>
                  <p:nvPicPr>
                    <p:cNvPr id="1223" name="Picture 85" descr="游泳3"/>
                    <p:cNvPicPr/>
                    <p:nvPr/>
                  </p:nvPicPr>
                  <p:blipFill>
                    <a:blip r:embed="rId35"/>
                    <a:srcRect l="42690" t="0" r="51177" b="0"/>
                    <a:stretch/>
                  </p:blipFill>
                  <p:spPr>
                    <a:xfrm>
                      <a:off x="7362720" y="436680"/>
                      <a:ext cx="504720" cy="567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24" name="Picture 86" descr="游泳3"/>
                    <p:cNvPicPr/>
                    <p:nvPr/>
                  </p:nvPicPr>
                  <p:blipFill>
                    <a:blip r:embed="rId36"/>
                    <a:srcRect l="30459" t="0" r="63430" b="77138"/>
                    <a:stretch/>
                  </p:blipFill>
                  <p:spPr>
                    <a:xfrm>
                      <a:off x="7362720" y="436680"/>
                      <a:ext cx="503280" cy="12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225" name="Group 87"/>
                  <p:cNvGrpSpPr/>
                  <p:nvPr/>
                </p:nvGrpSpPr>
                <p:grpSpPr>
                  <a:xfrm>
                    <a:off x="7794720" y="447480"/>
                    <a:ext cx="504720" cy="5676840"/>
                    <a:chOff x="7794720" y="447480"/>
                    <a:chExt cx="504720" cy="5676840"/>
                  </a:xfrm>
                </p:grpSpPr>
                <p:pic>
                  <p:nvPicPr>
                    <p:cNvPr id="1226" name="Picture 88" descr="游泳3"/>
                    <p:cNvPicPr/>
                    <p:nvPr/>
                  </p:nvPicPr>
                  <p:blipFill>
                    <a:blip r:embed="rId37"/>
                    <a:srcRect l="42690" t="0" r="51177" b="0"/>
                    <a:stretch/>
                  </p:blipFill>
                  <p:spPr>
                    <a:xfrm>
                      <a:off x="7794720" y="447480"/>
                      <a:ext cx="504720" cy="567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27" name="Picture 89" descr="游泳3"/>
                    <p:cNvPicPr/>
                    <p:nvPr/>
                  </p:nvPicPr>
                  <p:blipFill>
                    <a:blip r:embed="rId38"/>
                    <a:srcRect l="30459" t="0" r="63430" b="77138"/>
                    <a:stretch/>
                  </p:blipFill>
                  <p:spPr>
                    <a:xfrm>
                      <a:off x="7794720" y="447480"/>
                      <a:ext cx="503280" cy="12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1228" name="Picture 91" descr="游泳3"/>
              <p:cNvPicPr/>
              <p:nvPr/>
            </p:nvPicPr>
            <p:blipFill>
              <a:blip r:embed="rId39"/>
              <a:srcRect l="1562" t="0" r="93176" b="0"/>
              <a:stretch/>
            </p:blipFill>
            <p:spPr>
              <a:xfrm flipH="1">
                <a:off x="8265960" y="436680"/>
                <a:ext cx="501480" cy="567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29" name="Picture 94" descr="小狗游泳完成"/>
          <p:cNvPicPr/>
          <p:nvPr/>
        </p:nvPicPr>
        <p:blipFill>
          <a:blip r:embed="rId40"/>
          <a:stretch/>
        </p:blipFill>
        <p:spPr>
          <a:xfrm>
            <a:off x="7432560" y="2644920"/>
            <a:ext cx="844560" cy="76500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95" descr="小猴游泳完成"/>
          <p:cNvPicPr/>
          <p:nvPr/>
        </p:nvPicPr>
        <p:blipFill>
          <a:blip r:embed="rId41"/>
          <a:stretch/>
        </p:blipFill>
        <p:spPr>
          <a:xfrm>
            <a:off x="7432560" y="4748040"/>
            <a:ext cx="831960" cy="61308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96" descr="小猫游泳完成"/>
          <p:cNvPicPr/>
          <p:nvPr/>
        </p:nvPicPr>
        <p:blipFill>
          <a:blip r:embed="rId42"/>
          <a:stretch/>
        </p:blipFill>
        <p:spPr>
          <a:xfrm>
            <a:off x="7502400" y="3790800"/>
            <a:ext cx="844560" cy="61596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97" descr="小猪完成"/>
          <p:cNvPicPr/>
          <p:nvPr/>
        </p:nvPicPr>
        <p:blipFill>
          <a:blip r:embed="rId43"/>
          <a:stretch/>
        </p:blipFill>
        <p:spPr>
          <a:xfrm>
            <a:off x="7502400" y="1600200"/>
            <a:ext cx="866880" cy="706320"/>
          </a:xfrm>
          <a:prstGeom prst="rect">
            <a:avLst/>
          </a:prstGeom>
          <a:ln w="0">
            <a:noFill/>
          </a:ln>
        </p:spPr>
      </p:pic>
      <p:sp>
        <p:nvSpPr>
          <p:cNvPr id="1233" name="WordArt 3"/>
          <p:cNvSpPr txBox="1"/>
          <p:nvPr/>
        </p:nvSpPr>
        <p:spPr>
          <a:xfrm>
            <a:off x="3575160" y="981000"/>
            <a:ext cx="37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游泳比赛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58709E-006 L -0.13368 -0.00186 E">
                                      <p:cBhvr>
                                        <p:cTn id="213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66181E-006 L -0.25018 -0.00278 E">
                                      <p:cBhvr>
                                        <p:cTn id="215" dur="2000" fill="hold"/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913E-006 L -0.10104 -1.1913E-006 E">
                                      <p:cBhvr>
                                        <p:cTn id="217" dur="2000" fill="hold"/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7053E-007 L -0.18785 -0.00116 E">
                                      <p:cBhvr>
                                        <p:cTn id="219" dur="2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-0.00186 L -0.38368 -0.00186 E">
                                      <p:cBhvr>
                                        <p:cTn id="223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785 -0.00116 L -0.60521 -0.00116 E">
                                      <p:cBhvr>
                                        <p:cTn id="225" dur="2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04 -1.1913E-006 L -0.46337 -1.1913E-006 E">
                                      <p:cBhvr>
                                        <p:cTn id="227" dur="2000" fill="hold"/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018 -0.00278 L -0.52587 -0.00278 E">
                                      <p:cBhvr>
                                        <p:cTn id="229" dur="2000" fill="hold"/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Picture 2" descr="2ab8ff14d3fbcc49952b4375"/>
          <p:cNvPicPr/>
          <p:nvPr/>
        </p:nvPicPr>
        <p:blipFill>
          <a:blip r:embed="rId1"/>
          <a:srcRect l="0" t="0" r="35035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7" name="WordArt 3"/>
          <p:cNvSpPr txBox="1"/>
          <p:nvPr/>
        </p:nvSpPr>
        <p:spPr>
          <a:xfrm>
            <a:off x="2050920" y="692280"/>
            <a:ext cx="460872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拍手操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38" name="Text Box 4"/>
          <p:cNvSpPr/>
          <p:nvPr/>
        </p:nvSpPr>
        <p:spPr>
          <a:xfrm>
            <a:off x="2511000" y="2565360"/>
            <a:ext cx="417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小手拍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拍拍，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拍拍，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拍拍，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后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拍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小手举起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5" descr="老鹰捉小鸡小女孩完成"/>
          <p:cNvPicPr/>
          <p:nvPr/>
        </p:nvPicPr>
        <p:blipFill>
          <a:blip r:embed="rId2"/>
          <a:stretch/>
        </p:blipFill>
        <p:spPr>
          <a:xfrm>
            <a:off x="7846920" y="4149720"/>
            <a:ext cx="129708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内容占位符 8193" descr="图23425"/>
          <p:cNvPicPr/>
          <p:nvPr/>
        </p:nvPicPr>
        <p:blipFill>
          <a:blip r:embed="rId8"/>
          <a:srcRect l="0" t="7443" r="0" b="0"/>
          <a:stretch/>
        </p:blipFill>
        <p:spPr>
          <a:xfrm>
            <a:off x="23760" y="720720"/>
            <a:ext cx="9096480" cy="5705640"/>
          </a:xfrm>
          <a:prstGeom prst="rect">
            <a:avLst/>
          </a:prstGeom>
          <a:ln w="0">
            <a:noFill/>
          </a:ln>
        </p:spPr>
      </p:pic>
      <p:pic>
        <p:nvPicPr>
          <p:cNvPr id="1010" name="内容占位符 8194" descr="船"/>
          <p:cNvPicPr/>
          <p:nvPr/>
        </p:nvPicPr>
        <p:blipFill>
          <a:blip r:embed="rId9"/>
          <a:stretch/>
        </p:blipFill>
        <p:spPr>
          <a:xfrm>
            <a:off x="4483080" y="3495600"/>
            <a:ext cx="2565360" cy="148428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6"/>
          <p:cNvSpPr/>
          <p:nvPr/>
        </p:nvSpPr>
        <p:spPr>
          <a:xfrm>
            <a:off x="324000" y="117360"/>
            <a:ext cx="4052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  <a:ea typeface="宋体"/>
              </a:rPr>
              <a:t>一、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内容占位符 9217" descr="图23425"/>
          <p:cNvPicPr/>
          <p:nvPr/>
        </p:nvPicPr>
        <p:blipFill>
          <a:blip r:embed="rId1"/>
          <a:srcRect l="0" t="7598" r="0" b="0"/>
          <a:stretch/>
        </p:blipFill>
        <p:spPr>
          <a:xfrm>
            <a:off x="-28440" y="396720"/>
            <a:ext cx="9200880" cy="657576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9218" descr="船"/>
          <p:cNvPicPr/>
          <p:nvPr/>
        </p:nvPicPr>
        <p:blipFill>
          <a:blip r:embed="rId2"/>
          <a:stretch/>
        </p:blipFill>
        <p:spPr>
          <a:xfrm>
            <a:off x="4546440" y="4025880"/>
            <a:ext cx="2438640" cy="1409760"/>
          </a:xfrm>
          <a:prstGeom prst="rect">
            <a:avLst/>
          </a:prstGeom>
          <a:ln w="0">
            <a:noFill/>
          </a:ln>
        </p:spPr>
      </p:pic>
      <p:sp>
        <p:nvSpPr>
          <p:cNvPr id="1014" name="Cloud"/>
          <p:cNvSpPr/>
          <p:nvPr/>
        </p:nvSpPr>
        <p:spPr>
          <a:xfrm>
            <a:off x="631800" y="2684520"/>
            <a:ext cx="2514600" cy="11890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能不能说说它们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位置关系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三十二角星 9220"/>
          <p:cNvSpPr/>
          <p:nvPr/>
        </p:nvSpPr>
        <p:spPr>
          <a:xfrm>
            <a:off x="5486400" y="673200"/>
            <a:ext cx="990720" cy="838080"/>
          </a:xfrm>
          <a:custGeom>
            <a:avLst/>
            <a:gdLst>
              <a:gd name="textAreaLeft" fmla="*/ 232560 w 990720"/>
              <a:gd name="textAreaRight" fmla="*/ 758160 w 990720"/>
              <a:gd name="textAreaTop" fmla="*/ 196560 h 838080"/>
              <a:gd name="textAreaBottom" fmla="*/ 6415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三十二角星 9221"/>
          <p:cNvSpPr/>
          <p:nvPr/>
        </p:nvSpPr>
        <p:spPr>
          <a:xfrm>
            <a:off x="5638680" y="2120760"/>
            <a:ext cx="990720" cy="838440"/>
          </a:xfrm>
          <a:custGeom>
            <a:avLst/>
            <a:gdLst>
              <a:gd name="textAreaLeft" fmla="*/ 232560 w 990720"/>
              <a:gd name="textAreaRight" fmla="*/ 758160 w 990720"/>
              <a:gd name="textAreaTop" fmla="*/ 196920 h 838440"/>
              <a:gd name="textAreaBottom" fmla="*/ 641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9222" descr="船"/>
          <p:cNvPicPr/>
          <p:nvPr/>
        </p:nvPicPr>
        <p:blipFill>
          <a:blip r:embed="rId3"/>
          <a:stretch/>
        </p:blipFill>
        <p:spPr>
          <a:xfrm>
            <a:off x="2362320" y="4406760"/>
            <a:ext cx="2514600" cy="1457640"/>
          </a:xfrm>
          <a:prstGeom prst="rect">
            <a:avLst/>
          </a:prstGeom>
          <a:ln w="0">
            <a:noFill/>
          </a:ln>
        </p:spPr>
      </p:pic>
      <p:sp>
        <p:nvSpPr>
          <p:cNvPr id="1018" name="三十二角星 9223"/>
          <p:cNvSpPr/>
          <p:nvPr/>
        </p:nvSpPr>
        <p:spPr>
          <a:xfrm>
            <a:off x="5765760" y="2247840"/>
            <a:ext cx="990720" cy="838440"/>
          </a:xfrm>
          <a:custGeom>
            <a:avLst/>
            <a:gdLst>
              <a:gd name="textAreaLeft" fmla="*/ 232560 w 990720"/>
              <a:gd name="textAreaRight" fmla="*/ 758160 w 990720"/>
              <a:gd name="textAreaTop" fmla="*/ 196920 h 838440"/>
              <a:gd name="textAreaBottom" fmla="*/ 641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三十二角星 9224"/>
          <p:cNvSpPr/>
          <p:nvPr/>
        </p:nvSpPr>
        <p:spPr>
          <a:xfrm>
            <a:off x="2666880" y="4940280"/>
            <a:ext cx="990720" cy="838080"/>
          </a:xfrm>
          <a:custGeom>
            <a:avLst/>
            <a:gdLst>
              <a:gd name="textAreaLeft" fmla="*/ 232560 w 990720"/>
              <a:gd name="textAreaRight" fmla="*/ 758160 w 990720"/>
              <a:gd name="textAreaTop" fmla="*/ 196560 h 838080"/>
              <a:gd name="textAreaBottom" fmla="*/ 6415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Cloud"/>
          <p:cNvSpPr/>
          <p:nvPr/>
        </p:nvSpPr>
        <p:spPr>
          <a:xfrm>
            <a:off x="3276720" y="488880"/>
            <a:ext cx="1981080" cy="1327320"/>
          </a:xfrm>
          <a:custGeom>
            <a:avLst/>
            <a:gdLst/>
            <a:ahLst/>
            <a:rect l="l" t="t" r="r" b="b"/>
            <a:pathLst>
              <a:path w="21631" h="21614">
                <a:moveTo>
                  <a:pt x="1950" y="7185"/>
                </a:moveTo>
                <a:cubicBezTo>
                  <a:pt x="854" y="7337"/>
                  <a:pt x="-1" y="8603"/>
                  <a:pt x="-1" y="10142"/>
                </a:cubicBezTo>
                <a:cubicBezTo>
                  <a:pt x="-1" y="11236"/>
                  <a:pt x="431" y="12192"/>
                  <a:pt x="1074" y="12708"/>
                </a:cubicBezTo>
                <a:cubicBezTo>
                  <a:pt x="709" y="13237"/>
                  <a:pt x="486" y="13948"/>
                  <a:pt x="486" y="14730"/>
                </a:cubicBezTo>
                <a:cubicBezTo>
                  <a:pt x="486" y="16364"/>
                  <a:pt x="1462" y="17689"/>
                  <a:pt x="2666" y="17689"/>
                </a:cubicBezTo>
                <a:cubicBezTo>
                  <a:pt x="2752" y="17689"/>
                  <a:pt x="2837" y="17682"/>
                  <a:pt x="2921" y="17669"/>
                </a:cubicBezTo>
                <a:cubicBezTo>
                  <a:pt x="3587" y="19254"/>
                  <a:pt x="4837" y="20320"/>
                  <a:pt x="6270" y="20320"/>
                </a:cubicBezTo>
                <a:cubicBezTo>
                  <a:pt x="6998" y="20320"/>
                  <a:pt x="7678" y="20045"/>
                  <a:pt x="8259" y="19567"/>
                </a:cubicBezTo>
                <a:cubicBezTo>
                  <a:pt x="8865" y="20802"/>
                  <a:pt x="9896" y="21614"/>
                  <a:pt x="11066" y="21614"/>
                </a:cubicBezTo>
                <a:cubicBezTo>
                  <a:pt x="12590" y="21614"/>
                  <a:pt x="13878" y="20236"/>
                  <a:pt x="14298" y="18343"/>
                </a:cubicBezTo>
                <a:cubicBezTo>
                  <a:pt x="14741" y="18721"/>
                  <a:pt x="15266" y="18939"/>
                  <a:pt x="15829" y="18939"/>
                </a:cubicBezTo>
                <a:cubicBezTo>
                  <a:pt x="17419" y="18939"/>
                  <a:pt x="18709" y="17195"/>
                  <a:pt x="18722" y="15037"/>
                </a:cubicBezTo>
                <a:cubicBezTo>
                  <a:pt x="20367" y="14720"/>
                  <a:pt x="21630" y="12798"/>
                  <a:pt x="21630" y="10474"/>
                </a:cubicBezTo>
                <a:cubicBezTo>
                  <a:pt x="21630" y="9417"/>
                  <a:pt x="21369" y="8443"/>
                  <a:pt x="20929" y="7666"/>
                </a:cubicBezTo>
                <a:cubicBezTo>
                  <a:pt x="21068" y="7226"/>
                  <a:pt x="21145" y="6741"/>
                  <a:pt x="21145" y="6232"/>
                </a:cubicBezTo>
                <a:cubicBezTo>
                  <a:pt x="21145" y="4555"/>
                  <a:pt x="20312" y="3142"/>
                  <a:pt x="19180" y="2722"/>
                </a:cubicBezTo>
                <a:cubicBezTo>
                  <a:pt x="18976" y="1178"/>
                  <a:pt x="17983" y="8"/>
                  <a:pt x="16789" y="8"/>
                </a:cubicBezTo>
                <a:cubicBezTo>
                  <a:pt x="16046" y="8"/>
                  <a:pt x="15382" y="460"/>
                  <a:pt x="14936" y="1173"/>
                </a:cubicBezTo>
                <a:cubicBezTo>
                  <a:pt x="14537" y="461"/>
                  <a:pt x="13908" y="2"/>
                  <a:pt x="13200" y="2"/>
                </a:cubicBezTo>
                <a:cubicBezTo>
                  <a:pt x="12345" y="2"/>
                  <a:pt x="11604" y="672"/>
                  <a:pt x="11246" y="1647"/>
                </a:cubicBezTo>
                <a:cubicBezTo>
                  <a:pt x="10765" y="1001"/>
                  <a:pt x="10104" y="602"/>
                  <a:pt x="9375" y="602"/>
                </a:cubicBezTo>
                <a:cubicBezTo>
                  <a:pt x="8354" y="602"/>
                  <a:pt x="7468" y="1383"/>
                  <a:pt x="7019" y="2531"/>
                </a:cubicBezTo>
                <a:cubicBezTo>
                  <a:pt x="6519" y="2130"/>
                  <a:pt x="5935" y="1900"/>
                  <a:pt x="5312" y="1900"/>
                </a:cubicBezTo>
                <a:cubicBezTo>
                  <a:pt x="3447" y="1900"/>
                  <a:pt x="1935" y="3957"/>
                  <a:pt x="1935" y="6495"/>
                </a:cubicBezTo>
                <a:cubicBezTo>
                  <a:pt x="1935" y="6706"/>
                  <a:pt x="1945" y="6913"/>
                  <a:pt x="1966" y="7117"/>
                </a:cubicBezTo>
                <a:close/>
              </a:path>
              <a:path fill="none" w="21631" h="21614">
                <a:moveTo>
                  <a:pt x="1080" y="12690"/>
                </a:moveTo>
                <a:cubicBezTo>
                  <a:pt x="1402" y="12949"/>
                  <a:pt x="1778" y="13097"/>
                  <a:pt x="2178" y="13097"/>
                </a:cubicBezTo>
                <a:cubicBezTo>
                  <a:pt x="2235" y="13097"/>
                  <a:pt x="2292" y="13094"/>
                  <a:pt x="2348" y="13088"/>
                </a:cubicBezTo>
              </a:path>
              <a:path fill="none" w="21631" h="21614">
                <a:moveTo>
                  <a:pt x="2910" y="17640"/>
                </a:moveTo>
                <a:cubicBezTo>
                  <a:pt x="3105" y="17609"/>
                  <a:pt x="3290" y="17544"/>
                  <a:pt x="3465" y="17450"/>
                </a:cubicBezTo>
              </a:path>
              <a:path fill="none" w="21631" h="21614">
                <a:moveTo>
                  <a:pt x="7905" y="18675"/>
                </a:moveTo>
                <a:cubicBezTo>
                  <a:pt x="7993" y="18984"/>
                  <a:pt x="8105" y="19275"/>
                  <a:pt x="8238" y="19546"/>
                </a:cubicBezTo>
              </a:path>
              <a:path fill="none" w="21631" h="21614">
                <a:moveTo>
                  <a:pt x="14280" y="18330"/>
                </a:moveTo>
                <a:cubicBezTo>
                  <a:pt x="14349" y="18025"/>
                  <a:pt x="14394" y="17705"/>
                  <a:pt x="14414" y="17375"/>
                </a:cubicBezTo>
              </a:path>
              <a:path fill="none" w="21631" h="21614">
                <a:moveTo>
                  <a:pt x="18690" y="15045"/>
                </a:moveTo>
                <a:cubicBezTo>
                  <a:pt x="18690" y="15034"/>
                  <a:pt x="18690" y="15024"/>
                  <a:pt x="18690" y="15013"/>
                </a:cubicBezTo>
                <a:cubicBezTo>
                  <a:pt x="18690" y="13459"/>
                  <a:pt x="18027" y="12115"/>
                  <a:pt x="17065" y="11476"/>
                </a:cubicBezTo>
              </a:path>
              <a:path fill="none" w="21631" h="21614">
                <a:moveTo>
                  <a:pt x="20175" y="9015"/>
                </a:moveTo>
                <a:cubicBezTo>
                  <a:pt x="20486" y="8654"/>
                  <a:pt x="20736" y="8197"/>
                  <a:pt x="20900" y="7678"/>
                </a:cubicBezTo>
              </a:path>
              <a:path fill="none" w="21631" h="21614">
                <a:moveTo>
                  <a:pt x="19200" y="3345"/>
                </a:moveTo>
                <a:cubicBezTo>
                  <a:pt x="19200" y="3329"/>
                  <a:pt x="19200" y="3313"/>
                  <a:pt x="19200" y="3297"/>
                </a:cubicBezTo>
                <a:cubicBezTo>
                  <a:pt x="19200" y="3097"/>
                  <a:pt x="19187" y="2901"/>
                  <a:pt x="19162" y="2711"/>
                </a:cubicBezTo>
              </a:path>
              <a:path fill="none" w="21631" h="21614">
                <a:moveTo>
                  <a:pt x="14910" y="1170"/>
                </a:moveTo>
                <a:cubicBezTo>
                  <a:pt x="14759" y="1412"/>
                  <a:pt x="14634" y="1683"/>
                  <a:pt x="14539" y="1976"/>
                </a:cubicBezTo>
              </a:path>
              <a:path fill="none" w="21631" h="21614">
                <a:moveTo>
                  <a:pt x="11250" y="1665"/>
                </a:moveTo>
                <a:cubicBezTo>
                  <a:pt x="11169" y="1882"/>
                  <a:pt x="11108" y="2115"/>
                  <a:pt x="11069" y="2360"/>
                </a:cubicBezTo>
              </a:path>
              <a:path fill="none" w="21631" h="21614">
                <a:moveTo>
                  <a:pt x="7650" y="3270"/>
                </a:moveTo>
                <a:cubicBezTo>
                  <a:pt x="7455" y="3011"/>
                  <a:pt x="7237" y="2784"/>
                  <a:pt x="7001" y="2595"/>
                </a:cubicBezTo>
              </a:path>
              <a:path fill="none" w="21631" h="21614">
                <a:moveTo>
                  <a:pt x="1950" y="7185"/>
                </a:moveTo>
                <a:cubicBezTo>
                  <a:pt x="1974" y="7430"/>
                  <a:pt x="2012" y="7667"/>
                  <a:pt x="2063" y="7896"/>
                </a:cubicBezTo>
              </a:path>
            </a:pathLst>
          </a:cu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9" dur="3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35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38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2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3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24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32" name="图片 10242" descr="图23425"/>
          <p:cNvPicPr/>
          <p:nvPr/>
        </p:nvPicPr>
        <p:blipFill>
          <a:blip r:embed="rId8"/>
          <a:srcRect l="0" t="7800" r="0" b="0"/>
          <a:stretch/>
        </p:blipFill>
        <p:spPr>
          <a:xfrm>
            <a:off x="1716120" y="692280"/>
            <a:ext cx="5651640" cy="32493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0243" descr="船"/>
          <p:cNvPicPr/>
          <p:nvPr/>
        </p:nvPicPr>
        <p:blipFill>
          <a:blip r:embed="rId9"/>
          <a:stretch/>
        </p:blipFill>
        <p:spPr>
          <a:xfrm>
            <a:off x="4238640" y="2900520"/>
            <a:ext cx="1679400" cy="911160"/>
          </a:xfrm>
          <a:prstGeom prst="rect">
            <a:avLst/>
          </a:prstGeom>
          <a:ln w="0">
            <a:noFill/>
          </a:ln>
        </p:spPr>
      </p:pic>
      <p:sp>
        <p:nvSpPr>
          <p:cNvPr id="1034" name="标题 10241"/>
          <p:cNvSpPr/>
          <p:nvPr/>
        </p:nvSpPr>
        <p:spPr>
          <a:xfrm>
            <a:off x="-152280" y="3811680"/>
            <a:ext cx="91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）在（          ）的（          ）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标题 10241"/>
          <p:cNvSpPr/>
          <p:nvPr/>
        </p:nvSpPr>
        <p:spPr>
          <a:xfrm>
            <a:off x="-279360" y="4510080"/>
            <a:ext cx="91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           ）在（           ）的（          ）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标题 10241"/>
          <p:cNvSpPr/>
          <p:nvPr/>
        </p:nvSpPr>
        <p:spPr>
          <a:xfrm>
            <a:off x="-152280" y="5178600"/>
            <a:ext cx="91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           ）在（           ）的（         ）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文本框 7"/>
          <p:cNvSpPr/>
          <p:nvPr/>
        </p:nvSpPr>
        <p:spPr>
          <a:xfrm>
            <a:off x="1261800" y="4062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8"/>
          <p:cNvSpPr/>
          <p:nvPr/>
        </p:nvSpPr>
        <p:spPr>
          <a:xfrm>
            <a:off x="391932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火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9"/>
          <p:cNvSpPr/>
          <p:nvPr/>
        </p:nvSpPr>
        <p:spPr>
          <a:xfrm>
            <a:off x="6723360" y="406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0"/>
          <p:cNvSpPr/>
          <p:nvPr/>
        </p:nvSpPr>
        <p:spPr>
          <a:xfrm>
            <a:off x="1261800" y="4711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12"/>
          <p:cNvSpPr/>
          <p:nvPr/>
        </p:nvSpPr>
        <p:spPr>
          <a:xfrm>
            <a:off x="3919320" y="476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轮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14"/>
          <p:cNvSpPr/>
          <p:nvPr/>
        </p:nvSpPr>
        <p:spPr>
          <a:xfrm>
            <a:off x="6819480" y="476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15"/>
          <p:cNvSpPr/>
          <p:nvPr/>
        </p:nvSpPr>
        <p:spPr>
          <a:xfrm>
            <a:off x="1261800" y="5429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轮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16"/>
          <p:cNvSpPr/>
          <p:nvPr/>
        </p:nvSpPr>
        <p:spPr>
          <a:xfrm>
            <a:off x="4045320" y="5429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火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17"/>
          <p:cNvSpPr/>
          <p:nvPr/>
        </p:nvSpPr>
        <p:spPr>
          <a:xfrm>
            <a:off x="6819480" y="5429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组合 2"/>
          <p:cNvGrpSpPr/>
          <p:nvPr/>
        </p:nvGrpSpPr>
        <p:grpSpPr>
          <a:xfrm>
            <a:off x="0" y="103320"/>
            <a:ext cx="3244680" cy="525240"/>
            <a:chOff x="0" y="103320"/>
            <a:chExt cx="3244680" cy="525240"/>
          </a:xfrm>
        </p:grpSpPr>
        <p:pic>
          <p:nvPicPr>
            <p:cNvPr id="104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3320"/>
              <a:ext cx="309420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8" name="组合 4"/>
            <p:cNvGrpSpPr/>
            <p:nvPr/>
          </p:nvGrpSpPr>
          <p:grpSpPr>
            <a:xfrm>
              <a:off x="0" y="198000"/>
              <a:ext cx="429840" cy="273240"/>
              <a:chOff x="0" y="198000"/>
              <a:chExt cx="429840" cy="273240"/>
            </a:xfrm>
          </p:grpSpPr>
          <p:sp>
            <p:nvSpPr>
              <p:cNvPr id="1049" name="椭圆 11"/>
              <p:cNvSpPr/>
              <p:nvPr/>
            </p:nvSpPr>
            <p:spPr>
              <a:xfrm rot="16200000">
                <a:off x="242640" y="3618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508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椭圆 29"/>
              <p:cNvSpPr/>
              <p:nvPr/>
            </p:nvSpPr>
            <p:spPr>
              <a:xfrm rot="16200000">
                <a:off x="242640" y="23508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240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128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320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608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800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57" name="图片 11265" descr="图23425"/>
          <p:cNvPicPr/>
          <p:nvPr/>
        </p:nvPicPr>
        <p:blipFill>
          <a:blip r:embed="rId8"/>
          <a:srcRect l="0" t="7916" r="0" b="0"/>
          <a:stretch/>
        </p:blipFill>
        <p:spPr>
          <a:xfrm>
            <a:off x="193680" y="730080"/>
            <a:ext cx="8504280" cy="4862520"/>
          </a:xfrm>
          <a:prstGeom prst="rect">
            <a:avLst/>
          </a:prstGeom>
          <a:ln w="0">
            <a:noFill/>
          </a:ln>
        </p:spPr>
      </p:pic>
      <p:pic>
        <p:nvPicPr>
          <p:cNvPr id="1058" name="内容占位符 11266" descr="船"/>
          <p:cNvPicPr/>
          <p:nvPr/>
        </p:nvPicPr>
        <p:blipFill>
          <a:blip r:embed="rId9"/>
          <a:stretch/>
        </p:blipFill>
        <p:spPr>
          <a:xfrm>
            <a:off x="4444920" y="3511440"/>
            <a:ext cx="196848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059" name="组合 11267"/>
          <p:cNvGrpSpPr/>
          <p:nvPr/>
        </p:nvGrpSpPr>
        <p:grpSpPr>
          <a:xfrm>
            <a:off x="933480" y="4670280"/>
            <a:ext cx="3176280" cy="1514520"/>
            <a:chOff x="933480" y="4670280"/>
            <a:chExt cx="3176280" cy="1514520"/>
          </a:xfrm>
        </p:grpSpPr>
        <p:pic>
          <p:nvPicPr>
            <p:cNvPr id="1060" name="图片 11268" descr="200762321949541_2[1]"/>
            <p:cNvPicPr/>
            <p:nvPr/>
          </p:nvPicPr>
          <p:blipFill>
            <a:blip r:embed="rId10"/>
            <a:stretch/>
          </p:blipFill>
          <p:spPr>
            <a:xfrm>
              <a:off x="3326760" y="5036760"/>
              <a:ext cx="783000" cy="11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圆角矩形标注 11269"/>
            <p:cNvSpPr/>
            <p:nvPr/>
          </p:nvSpPr>
          <p:spPr>
            <a:xfrm>
              <a:off x="933480" y="4670280"/>
              <a:ext cx="1827000" cy="730440"/>
            </a:xfrm>
            <a:prstGeom prst="wedgeRoundRectCallout">
              <a:avLst>
                <a:gd name="adj1" fmla="val 71249"/>
                <a:gd name="adj2" fmla="val 3359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文本框 11270"/>
          <p:cNvSpPr/>
          <p:nvPr/>
        </p:nvSpPr>
        <p:spPr>
          <a:xfrm>
            <a:off x="1159200" y="4853160"/>
            <a:ext cx="13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怎样说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6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5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66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74" name="图片 4097" descr="ji"/>
          <p:cNvPicPr/>
          <p:nvPr/>
        </p:nvPicPr>
        <p:blipFill>
          <a:blip r:embed="rId8"/>
          <a:stretch/>
        </p:blipFill>
        <p:spPr>
          <a:xfrm>
            <a:off x="0" y="914400"/>
            <a:ext cx="9144000" cy="5913360"/>
          </a:xfrm>
          <a:prstGeom prst="rect">
            <a:avLst/>
          </a:prstGeom>
          <a:ln w="0">
            <a:noFill/>
          </a:ln>
        </p:spPr>
      </p:pic>
      <p:pic>
        <p:nvPicPr>
          <p:cNvPr id="1075" name="内容占位符 4098" descr="ji"/>
          <p:cNvPicPr/>
          <p:nvPr/>
        </p:nvPicPr>
        <p:blipFill>
          <a:blip r:embed="rId9"/>
          <a:stretch/>
        </p:blipFill>
        <p:spPr>
          <a:xfrm>
            <a:off x="-17640" y="914400"/>
            <a:ext cx="9168120" cy="5959440"/>
          </a:xfrm>
          <a:prstGeom prst="rect">
            <a:avLst/>
          </a:prstGeom>
          <a:ln w="0">
            <a:noFill/>
          </a:ln>
        </p:spPr>
      </p:pic>
      <p:sp>
        <p:nvSpPr>
          <p:cNvPr id="1076" name="文本框 4099"/>
          <p:cNvSpPr/>
          <p:nvPr/>
        </p:nvSpPr>
        <p:spPr>
          <a:xfrm>
            <a:off x="2902320" y="3222720"/>
            <a:ext cx="3167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电风扇、电灯在教室的什么位置？黑板上面有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低头往下看，你能看到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4100"/>
          <p:cNvSpPr/>
          <p:nvPr/>
        </p:nvSpPr>
        <p:spPr>
          <a:xfrm>
            <a:off x="1865880" y="4343400"/>
            <a:ext cx="5087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想象：如果你再往上看，穿透屋顶，穿透这栋楼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你的上面还会有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4101"/>
          <p:cNvSpPr/>
          <p:nvPr/>
        </p:nvSpPr>
        <p:spPr>
          <a:xfrm>
            <a:off x="1447920" y="137160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幼圆"/>
                <a:ea typeface="幼圆"/>
              </a:rPr>
              <a:t>观察我们的教室</a:t>
            </a:r>
            <a:r>
              <a:rPr b="1" lang="en-US" sz="4400" spc="-1" strike="noStrike">
                <a:solidFill>
                  <a:srgbClr val="ff0066"/>
                </a:solidFill>
                <a:latin typeface="幼圆"/>
                <a:ea typeface="幼圆"/>
              </a:rPr>
              <a:t>, </a:t>
            </a:r>
            <a:r>
              <a:rPr b="1" lang="zh-CN" sz="4400" spc="-1" strike="noStrike">
                <a:solidFill>
                  <a:srgbClr val="ff0066"/>
                </a:solidFill>
                <a:latin typeface="幼圆"/>
                <a:ea typeface="幼圆"/>
              </a:rPr>
              <a:t>你能看到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6"/>
          <p:cNvSpPr/>
          <p:nvPr/>
        </p:nvSpPr>
        <p:spPr>
          <a:xfrm>
            <a:off x="441360" y="130320"/>
            <a:ext cx="4052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  <a:ea typeface="宋体"/>
              </a:rPr>
              <a:t>二、实践应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YOUY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WordArt 3"/>
          <p:cNvSpPr txBox="1"/>
          <p:nvPr/>
        </p:nvSpPr>
        <p:spPr>
          <a:xfrm>
            <a:off x="2214720" y="927000"/>
            <a:ext cx="489240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我们躲在哪？</a:t>
            </a:r>
            <a:endParaRPr b="1" i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81" name="Picture 16" descr="小猫完成"/>
          <p:cNvPicPr/>
          <p:nvPr/>
        </p:nvPicPr>
        <p:blipFill>
          <a:blip r:embed="rId1"/>
          <a:stretch/>
        </p:blipFill>
        <p:spPr>
          <a:xfrm rot="60000">
            <a:off x="7106760" y="2333160"/>
            <a:ext cx="1158840" cy="16099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8" descr="布娃娃完成"/>
          <p:cNvPicPr/>
          <p:nvPr/>
        </p:nvPicPr>
        <p:blipFill>
          <a:blip r:embed="rId2"/>
          <a:stretch/>
        </p:blipFill>
        <p:spPr>
          <a:xfrm>
            <a:off x="828720" y="2171880"/>
            <a:ext cx="1386000" cy="19350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5" descr="狗狗"/>
          <p:cNvPicPr/>
          <p:nvPr/>
        </p:nvPicPr>
        <p:blipFill>
          <a:blip r:embed="rId3"/>
          <a:stretch/>
        </p:blipFill>
        <p:spPr>
          <a:xfrm>
            <a:off x="5632560" y="3367080"/>
            <a:ext cx="1179360" cy="1484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33" descr="小兔完成"/>
          <p:cNvPicPr/>
          <p:nvPr/>
        </p:nvPicPr>
        <p:blipFill>
          <a:blip r:embed="rId4"/>
          <a:stretch/>
        </p:blipFill>
        <p:spPr>
          <a:xfrm rot="1380000">
            <a:off x="3744720" y="2885760"/>
            <a:ext cx="1685880" cy="19652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7" descr="小猴完成"/>
          <p:cNvPicPr/>
          <p:nvPr/>
        </p:nvPicPr>
        <p:blipFill>
          <a:blip r:embed="rId5"/>
          <a:stretch/>
        </p:blipFill>
        <p:spPr>
          <a:xfrm>
            <a:off x="2494080" y="3138480"/>
            <a:ext cx="12510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1086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87" name="圆角矩形 5" descr=""/>
            <p:cNvPicPr/>
            <p:nvPr/>
          </p:nvPicPr>
          <p:blipFill>
            <a:blip r:embed="rId6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8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89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0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1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椭圆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3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4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Picture 13" descr="房间完成"/>
          <p:cNvPicPr/>
          <p:nvPr/>
        </p:nvPicPr>
        <p:blipFill>
          <a:blip r:embed="rId1"/>
          <a:srcRect l="2886" t="2814" r="4810" b="24425"/>
          <a:stretch/>
        </p:blipFill>
        <p:spPr>
          <a:xfrm>
            <a:off x="-103320" y="0"/>
            <a:ext cx="9259920" cy="687240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6146" descr="图片678"/>
          <p:cNvPicPr/>
          <p:nvPr/>
        </p:nvPicPr>
        <p:blipFill>
          <a:blip r:embed="rId2"/>
          <a:stretch/>
        </p:blipFill>
        <p:spPr>
          <a:xfrm>
            <a:off x="1528920" y="200160"/>
            <a:ext cx="4890960" cy="44942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0" descr="床2完成"/>
          <p:cNvPicPr/>
          <p:nvPr/>
        </p:nvPicPr>
        <p:blipFill>
          <a:blip r:embed="rId3"/>
          <a:stretch/>
        </p:blipFill>
        <p:spPr>
          <a:xfrm>
            <a:off x="-103320" y="3138480"/>
            <a:ext cx="3554640" cy="37339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8" descr="橱子"/>
          <p:cNvPicPr/>
          <p:nvPr/>
        </p:nvPicPr>
        <p:blipFill>
          <a:blip r:embed="rId4"/>
          <a:srcRect l="0" t="0" r="0" b="12024"/>
          <a:stretch/>
        </p:blipFill>
        <p:spPr>
          <a:xfrm>
            <a:off x="7140600" y="1736640"/>
            <a:ext cx="2016000" cy="51357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7" descr="小猴完成"/>
          <p:cNvPicPr/>
          <p:nvPr/>
        </p:nvPicPr>
        <p:blipFill>
          <a:blip r:embed="rId5"/>
          <a:stretch/>
        </p:blipFill>
        <p:spPr>
          <a:xfrm>
            <a:off x="1182600" y="3592440"/>
            <a:ext cx="692280" cy="94788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6" descr="小猫完成"/>
          <p:cNvPicPr/>
          <p:nvPr/>
        </p:nvPicPr>
        <p:blipFill>
          <a:blip r:embed="rId6"/>
          <a:stretch/>
        </p:blipFill>
        <p:spPr>
          <a:xfrm rot="60000">
            <a:off x="7815240" y="523440"/>
            <a:ext cx="914400" cy="12700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1" descr="窗帘2完成"/>
          <p:cNvPicPr/>
          <p:nvPr/>
        </p:nvPicPr>
        <p:blipFill>
          <a:blip r:embed="rId7"/>
          <a:stretch/>
        </p:blipFill>
        <p:spPr>
          <a:xfrm>
            <a:off x="4397400" y="200160"/>
            <a:ext cx="2022480" cy="44942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8" descr="布娃娃完成"/>
          <p:cNvPicPr/>
          <p:nvPr/>
        </p:nvPicPr>
        <p:blipFill>
          <a:blip r:embed="rId8"/>
          <a:stretch/>
        </p:blipFill>
        <p:spPr>
          <a:xfrm>
            <a:off x="565200" y="3349800"/>
            <a:ext cx="963720" cy="13446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3" descr="小兔完成"/>
          <p:cNvPicPr/>
          <p:nvPr/>
        </p:nvPicPr>
        <p:blipFill>
          <a:blip r:embed="rId9"/>
          <a:stretch/>
        </p:blipFill>
        <p:spPr>
          <a:xfrm rot="19080000">
            <a:off x="4322520" y="3138120"/>
            <a:ext cx="795240" cy="9270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1" descr="窗帘2完成"/>
          <p:cNvPicPr/>
          <p:nvPr/>
        </p:nvPicPr>
        <p:blipFill>
          <a:blip r:embed="rId10"/>
          <a:stretch/>
        </p:blipFill>
        <p:spPr>
          <a:xfrm>
            <a:off x="4411800" y="200160"/>
            <a:ext cx="2020680" cy="44942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2" descr="学习桌完成"/>
          <p:cNvPicPr/>
          <p:nvPr/>
        </p:nvPicPr>
        <p:blipFill>
          <a:blip r:embed="rId11"/>
          <a:stretch/>
        </p:blipFill>
        <p:spPr>
          <a:xfrm>
            <a:off x="5118120" y="3387600"/>
            <a:ext cx="1893960" cy="23050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5" descr="狗狗"/>
          <p:cNvPicPr/>
          <p:nvPr/>
        </p:nvPicPr>
        <p:blipFill>
          <a:blip r:embed="rId12"/>
          <a:stretch/>
        </p:blipFill>
        <p:spPr>
          <a:xfrm>
            <a:off x="5746680" y="4851360"/>
            <a:ext cx="685800" cy="8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13" descr="房间完成"/>
          <p:cNvPicPr/>
          <p:nvPr/>
        </p:nvPicPr>
        <p:blipFill>
          <a:blip r:embed="rId1"/>
          <a:srcRect l="2886" t="2814" r="4810" b="24425"/>
          <a:stretch/>
        </p:blipFill>
        <p:spPr>
          <a:xfrm>
            <a:off x="3240" y="9360"/>
            <a:ext cx="9151920" cy="493092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7170" descr="图片678"/>
          <p:cNvPicPr/>
          <p:nvPr/>
        </p:nvPicPr>
        <p:blipFill>
          <a:blip r:embed="rId2"/>
          <a:stretch/>
        </p:blipFill>
        <p:spPr>
          <a:xfrm>
            <a:off x="2602080" y="247680"/>
            <a:ext cx="3200400" cy="26956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0" descr="床2完成"/>
          <p:cNvPicPr/>
          <p:nvPr/>
        </p:nvPicPr>
        <p:blipFill>
          <a:blip r:embed="rId3"/>
          <a:stretch/>
        </p:blipFill>
        <p:spPr>
          <a:xfrm>
            <a:off x="3240" y="1995480"/>
            <a:ext cx="2825640" cy="29638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8" descr="橱子"/>
          <p:cNvPicPr/>
          <p:nvPr/>
        </p:nvPicPr>
        <p:blipFill>
          <a:blip r:embed="rId4"/>
          <a:srcRect l="0" t="0" r="0" b="12024"/>
          <a:stretch/>
        </p:blipFill>
        <p:spPr>
          <a:xfrm>
            <a:off x="7421400" y="1531800"/>
            <a:ext cx="1733760" cy="33832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7" descr="小猴完成"/>
          <p:cNvPicPr/>
          <p:nvPr/>
        </p:nvPicPr>
        <p:blipFill>
          <a:blip r:embed="rId5"/>
          <a:stretch/>
        </p:blipFill>
        <p:spPr>
          <a:xfrm rot="900000">
            <a:off x="874800" y="2460600"/>
            <a:ext cx="560160" cy="695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6" descr="小猫完成"/>
          <p:cNvPicPr/>
          <p:nvPr/>
        </p:nvPicPr>
        <p:blipFill>
          <a:blip r:embed="rId6"/>
          <a:stretch/>
        </p:blipFill>
        <p:spPr>
          <a:xfrm rot="60000">
            <a:off x="8032320" y="564840"/>
            <a:ext cx="738360" cy="10256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8" descr="布娃娃完成"/>
          <p:cNvPicPr/>
          <p:nvPr/>
        </p:nvPicPr>
        <p:blipFill>
          <a:blip r:embed="rId7"/>
          <a:stretch/>
        </p:blipFill>
        <p:spPr>
          <a:xfrm>
            <a:off x="368280" y="2349360"/>
            <a:ext cx="787320" cy="1101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33" descr="小兔完成"/>
          <p:cNvPicPr/>
          <p:nvPr/>
        </p:nvPicPr>
        <p:blipFill>
          <a:blip r:embed="rId8"/>
          <a:stretch/>
        </p:blipFill>
        <p:spPr>
          <a:xfrm rot="19620000">
            <a:off x="4387320" y="1968480"/>
            <a:ext cx="625680" cy="7286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1" descr="窗帘2完成"/>
          <p:cNvPicPr/>
          <p:nvPr/>
        </p:nvPicPr>
        <p:blipFill>
          <a:blip r:embed="rId9"/>
          <a:stretch/>
        </p:blipFill>
        <p:spPr>
          <a:xfrm>
            <a:off x="4495680" y="249120"/>
            <a:ext cx="1320840" cy="26942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2" descr="学习桌完成"/>
          <p:cNvPicPr/>
          <p:nvPr/>
        </p:nvPicPr>
        <p:blipFill>
          <a:blip r:embed="rId10"/>
          <a:stretch/>
        </p:blipFill>
        <p:spPr>
          <a:xfrm>
            <a:off x="4776840" y="2460600"/>
            <a:ext cx="1377720" cy="1679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5" descr="狗狗"/>
          <p:cNvPicPr/>
          <p:nvPr/>
        </p:nvPicPr>
        <p:blipFill>
          <a:blip r:embed="rId11"/>
          <a:stretch/>
        </p:blipFill>
        <p:spPr>
          <a:xfrm>
            <a:off x="5257800" y="3495600"/>
            <a:ext cx="5446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120" name="组合 7180"/>
          <p:cNvGrpSpPr/>
          <p:nvPr/>
        </p:nvGrpSpPr>
        <p:grpSpPr>
          <a:xfrm>
            <a:off x="1892160" y="5259240"/>
            <a:ext cx="4994640" cy="912960"/>
            <a:chOff x="1892160" y="5259240"/>
            <a:chExt cx="4994640" cy="912960"/>
          </a:xfrm>
        </p:grpSpPr>
        <p:sp>
          <p:nvSpPr>
            <p:cNvPr id="1121" name="Text Box 42"/>
            <p:cNvSpPr/>
            <p:nvPr/>
          </p:nvSpPr>
          <p:spPr>
            <a:xfrm>
              <a:off x="3354840" y="5475600"/>
              <a:ext cx="353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躲在        的上面，   的前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2" name="Picture 43" descr="床2完成"/>
            <p:cNvPicPr/>
            <p:nvPr/>
          </p:nvPicPr>
          <p:blipFill>
            <a:blip r:embed="rId12"/>
            <a:stretch/>
          </p:blipFill>
          <p:spPr>
            <a:xfrm>
              <a:off x="3548520" y="5259240"/>
              <a:ext cx="758160" cy="79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Picture 44" descr="布娃娃完成"/>
            <p:cNvPicPr/>
            <p:nvPr/>
          </p:nvPicPr>
          <p:blipFill>
            <a:blip r:embed="rId13"/>
            <a:stretch/>
          </p:blipFill>
          <p:spPr>
            <a:xfrm>
              <a:off x="1892160" y="5259600"/>
              <a:ext cx="65412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17" descr="小猴完成"/>
            <p:cNvPicPr/>
            <p:nvPr/>
          </p:nvPicPr>
          <p:blipFill>
            <a:blip r:embed="rId14"/>
            <a:stretch/>
          </p:blipFill>
          <p:spPr>
            <a:xfrm rot="60000">
              <a:off x="5766120" y="5401440"/>
              <a:ext cx="527760" cy="65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5" name="组合 7185"/>
          <p:cNvGrpSpPr/>
          <p:nvPr/>
        </p:nvGrpSpPr>
        <p:grpSpPr>
          <a:xfrm>
            <a:off x="2936880" y="5307120"/>
            <a:ext cx="2825280" cy="919080"/>
            <a:chOff x="2936880" y="5307120"/>
            <a:chExt cx="2825280" cy="919080"/>
          </a:xfrm>
        </p:grpSpPr>
        <p:pic>
          <p:nvPicPr>
            <p:cNvPr id="1126" name="Picture 41" descr="小猫完成"/>
            <p:cNvPicPr/>
            <p:nvPr/>
          </p:nvPicPr>
          <p:blipFill>
            <a:blip r:embed="rId15"/>
            <a:stretch/>
          </p:blipFill>
          <p:spPr>
            <a:xfrm>
              <a:off x="2936880" y="5307120"/>
              <a:ext cx="555840" cy="77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18" descr="橱子"/>
            <p:cNvPicPr/>
            <p:nvPr/>
          </p:nvPicPr>
          <p:blipFill>
            <a:blip r:embed="rId16"/>
            <a:srcRect l="0" t="0" r="0" b="12024"/>
            <a:stretch/>
          </p:blipFill>
          <p:spPr>
            <a:xfrm>
              <a:off x="4466520" y="5307120"/>
              <a:ext cx="4384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文本框 7188"/>
            <p:cNvSpPr/>
            <p:nvPr/>
          </p:nvSpPr>
          <p:spPr>
            <a:xfrm>
              <a:off x="4046760" y="5501160"/>
              <a:ext cx="17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躲在   的上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组合 7189"/>
          <p:cNvGrpSpPr/>
          <p:nvPr/>
        </p:nvGrpSpPr>
        <p:grpSpPr>
          <a:xfrm>
            <a:off x="2936880" y="5307120"/>
            <a:ext cx="3253680" cy="942840"/>
            <a:chOff x="2936880" y="5307120"/>
            <a:chExt cx="3253680" cy="942840"/>
          </a:xfrm>
        </p:grpSpPr>
        <p:pic>
          <p:nvPicPr>
            <p:cNvPr id="1130" name="Picture 12" descr="学习桌完成"/>
            <p:cNvPicPr/>
            <p:nvPr/>
          </p:nvPicPr>
          <p:blipFill>
            <a:blip r:embed="rId17"/>
            <a:stretch/>
          </p:blipFill>
          <p:spPr>
            <a:xfrm>
              <a:off x="4529880" y="5448600"/>
              <a:ext cx="657360" cy="80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1" name="组合 7191"/>
            <p:cNvGrpSpPr/>
            <p:nvPr/>
          </p:nvGrpSpPr>
          <p:grpSpPr>
            <a:xfrm>
              <a:off x="2936880" y="5307120"/>
              <a:ext cx="3253680" cy="728640"/>
              <a:chOff x="2936880" y="5307120"/>
              <a:chExt cx="3253680" cy="728640"/>
            </a:xfrm>
          </p:grpSpPr>
          <p:sp>
            <p:nvSpPr>
              <p:cNvPr id="1132" name="Text Box 38"/>
              <p:cNvSpPr/>
              <p:nvPr/>
            </p:nvSpPr>
            <p:spPr>
              <a:xfrm>
                <a:off x="3949560" y="5454360"/>
                <a:ext cx="224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躲在       的下面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3" name="Picture 37" descr="狗狗"/>
              <p:cNvPicPr/>
              <p:nvPr/>
            </p:nvPicPr>
            <p:blipFill>
              <a:blip r:embed="rId18"/>
              <a:stretch/>
            </p:blipFill>
            <p:spPr>
              <a:xfrm>
                <a:off x="2936880" y="5307120"/>
                <a:ext cx="575640" cy="72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34" name="组合 7194"/>
          <p:cNvGrpSpPr/>
          <p:nvPr/>
        </p:nvGrpSpPr>
        <p:grpSpPr>
          <a:xfrm>
            <a:off x="2841480" y="5241960"/>
            <a:ext cx="3283920" cy="930240"/>
            <a:chOff x="2841480" y="5241960"/>
            <a:chExt cx="3283920" cy="930240"/>
          </a:xfrm>
        </p:grpSpPr>
        <p:pic>
          <p:nvPicPr>
            <p:cNvPr id="1135" name="Picture 33" descr="小兔完成"/>
            <p:cNvPicPr/>
            <p:nvPr/>
          </p:nvPicPr>
          <p:blipFill>
            <a:blip r:embed="rId19"/>
            <a:stretch/>
          </p:blipFill>
          <p:spPr>
            <a:xfrm>
              <a:off x="2841480" y="5241960"/>
              <a:ext cx="71424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Text Box 34"/>
            <p:cNvSpPr/>
            <p:nvPr/>
          </p:nvSpPr>
          <p:spPr>
            <a:xfrm>
              <a:off x="3989520" y="5493960"/>
              <a:ext cx="213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躲在       的后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7" name="Picture 35" descr="窗帘2完成"/>
            <p:cNvPicPr/>
            <p:nvPr/>
          </p:nvPicPr>
          <p:blipFill>
            <a:blip r:embed="rId20"/>
            <a:stretch/>
          </p:blipFill>
          <p:spPr>
            <a:xfrm>
              <a:off x="4681080" y="5294520"/>
              <a:ext cx="404280" cy="87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8" name="组合 7198"/>
          <p:cNvGrpSpPr/>
          <p:nvPr/>
        </p:nvGrpSpPr>
        <p:grpSpPr>
          <a:xfrm>
            <a:off x="5594400" y="4956120"/>
            <a:ext cx="3176280" cy="1684440"/>
            <a:chOff x="5594400" y="4956120"/>
            <a:chExt cx="3176280" cy="1684440"/>
          </a:xfrm>
        </p:grpSpPr>
        <p:pic>
          <p:nvPicPr>
            <p:cNvPr id="1139" name="图片 7199" descr="200762321949541_2[1]"/>
            <p:cNvPicPr/>
            <p:nvPr/>
          </p:nvPicPr>
          <p:blipFill>
            <a:blip r:embed="rId21"/>
            <a:stretch/>
          </p:blipFill>
          <p:spPr>
            <a:xfrm>
              <a:off x="7987680" y="5363640"/>
              <a:ext cx="783000" cy="12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圆角矩形标注 7200"/>
            <p:cNvSpPr/>
            <p:nvPr/>
          </p:nvSpPr>
          <p:spPr>
            <a:xfrm>
              <a:off x="5594400" y="4956120"/>
              <a:ext cx="1827000" cy="812520"/>
            </a:xfrm>
            <a:prstGeom prst="wedgeRoundRectCallout">
              <a:avLst>
                <a:gd name="adj1" fmla="val 71249"/>
                <a:gd name="adj2" fmla="val 3359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509800" y="5038200"/>
            <a:ext cx="20257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还可以怎样说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"/>
                            </p:stCondLst>
                            <p:childTnLst>
                              <p:par>
                                <p:cTn id="16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>万润仪器贸易公司</cp:lastModifiedBy>
  <dcterms:modified xsi:type="dcterms:W3CDTF">2020-08-18T09:35:14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